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E950-124C-4879-8C7A-535B0531A432}" type="datetime">
              <a:rPr b="0" lang="en-US" sz="1200" spc="-1" strike="noStrike">
                <a:solidFill>
                  <a:srgbClr val="2f2b20"/>
                </a:solidFill>
                <a:latin typeface="Times New Roman"/>
              </a:rPr>
              <a:t>07/31/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E5B3-9D34-46C8-9AA5-9CAA3A3EE0F1}"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8B6C-4516-4B87-9220-C84915BCB9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917C-50D9-42CB-9EFA-A058BBF458CE}"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B769-6782-431F-AC8E-6485B73537BA}"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2257-AED4-471A-A654-ADF88A05AD2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4F8D-64DA-4173-A976-ECC4722A835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DE18-648A-43B5-90EB-6534393C160B}"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5A04-8FE8-4F78-9BB6-B43726814CB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7516-C606-48F3-9D9D-0AC7E0041FA5}"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8CC8-EE6D-4E7E-89B4-44BA6782B7F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DD73-69C8-4A2A-BF2E-A9C7A3A7181B}"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7E0C-55FC-47A4-A401-4CE8FFC6DD1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B1FC-C7D4-414D-B5E1-E0B846919254}"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8DF9-3211-48D8-92EC-2F8BB114B7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F3A1-11FD-4165-9061-11483B858AD0}"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262A-C8BF-4CD3-97C6-C73DF8BDCE2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6EF2-903F-41CA-B496-3C41F5E37024}"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86F8-E797-48C8-8015-5FBB9B14C1C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DC5E-FECA-472C-B634-C1D5CDCDD97F}"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6E2F-8FE0-4638-8CEF-195235465DB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2AF3-C8F5-4E93-81F9-A1DCCCAA3D5C}"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35EB-0D6E-4F72-B731-3C28E44B9D5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0385-87E5-4389-B9D7-A726C0D59C0B}"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458B-322D-445C-8392-1B9E19536A8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2C68-CF30-4CEF-9200-C9FC2C0AD9DF}"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9C37-DE44-4F77-8D34-D15C2AC8BFEB}"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7A58-C765-42E8-A125-738674A3A4FE}" type="datetime">
              <a:rPr b="0" lang="en-US" sz="1200" spc="-1" strike="noStrike">
                <a:solidFill>
                  <a:srgbClr val="2f2b20"/>
                </a:solidFill>
                <a:latin typeface="Calibri"/>
              </a:rPr>
              <a:t>07/31/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90C313-9924-40AF-865B-D0AD9E05D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6362DA-5D9F-4E69-BFC8-ACA5C4100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C521C9-035C-493C-B529-EA783B900D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EAC2576-1065-4186-BBC6-283BFE059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D2474-1CF4-476A-882D-8FFBA0AFC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88157-BD77-417F-A40B-E53FB4CE0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328AF-EE7E-4D85-BF66-387804DA2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A995B-D141-471D-86AD-294B53C50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C3DF6-91AE-43EC-8F1B-CBA66455B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77C53-D7F0-42E3-A6B7-6C6EBEBEF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ED154-53BD-401D-B414-0CFAA0E5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907847-46E8-46D9-AE8A-ABDF8BA7E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9D294-2057-45C5-90FA-2AE555406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703C6-9C17-4065-A18E-9B04A001F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29AB5-E25B-4263-8BE3-D7FD9D5BC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02C49-8B81-49B9-8875-004D9F74D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1742A-199F-44EF-BCD0-9A2E814AA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3C6787-D7F1-42E0-9097-2D22A2358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D8BFB1-C9D2-41BF-8CCE-2CB305CF4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BF0393-05E6-4D8A-9C09-5EBABC006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71FBCF-53C9-4F26-B343-BB77DFE2C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6F8B64-22D3-4765-AA3B-DE7439B1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40CB7C-28C6-479F-B191-12139F11C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8C0C61-73D4-4E0B-B68C-3C29626461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141D-1624-4F06-BB41-5505836DC4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3267-B6A8-4316-9880-C7356C087A14}" type="datetime">
              <a:rPr b="0" lang="en-US" sz="1200" spc="-1" strike="noStrike">
                <a:solidFill>
                  <a:srgbClr val="dcc718"/>
                </a:solidFill>
                <a:latin typeface="Times New Roman"/>
              </a:rPr>
              <a:t>07/31/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48E0-283C-44A1-9858-CCDCBFF416D5}" type="datetime">
              <a:rPr b="0" lang="en-US" sz="1200" spc="-1" strike="noStrike">
                <a:solidFill>
                  <a:srgbClr val="dcc718"/>
                </a:solidFill>
                <a:latin typeface="Times New Roman"/>
              </a:rPr>
              <a:t>07/31/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2A67-3D8C-46F5-8B34-5E0211A586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