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FAC9-8DF3-4C4E-A19D-E0A4D33EC405}" type="datetime">
              <a:rPr b="0" lang="en-US" sz="1200" spc="-1" strike="noStrike">
                <a:solidFill>
                  <a:srgbClr val="2f2b20"/>
                </a:solidFill>
                <a:latin typeface="Times New Roman"/>
              </a:rPr>
              <a:t>07/29/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98A0-E523-4087-A14D-3EBE856502FE}"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2A03-B6EE-4CD0-BFD9-914AE7388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5A87-2A18-4998-8FE4-E9434EBE7F62}"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35AC-08D3-407B-B9DB-F538C84E56C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6D0A-313A-493D-AF66-91977E644ED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5386-2EE6-495C-822F-B690C36FC4EA}"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85D6-0B1E-4CA2-BFF1-800DA88611E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182A-93C2-4114-B18F-06E2A4E7C29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0271-BDB9-43A6-B7A0-38E494BB9DD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4153-A541-45B8-BB2C-37F9E048B99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C0A7-DA1E-412A-AAB4-64AD95B0A0D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CEDB-6FFE-4E2D-9C8B-39CB5078D7A5}"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0E8D-F2E9-4E05-A526-FDD3EFCB1066}"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9946-6AD0-40D3-B837-F5CB11B34B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5486-26FF-4978-B5F5-56586E1D1C50}"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F906-B5AA-4F5E-95DD-EE8D289B3BF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F280-00C8-4807-A4F5-7D51A2B7FB7F}"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BDC7-09E5-4F97-9B36-6202F683462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C7CE-6BE4-4FCF-A20C-592C3409A7C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DB82-B177-4D6C-BA5D-CA8A4662DA4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F624-CBB4-48D4-A364-980C203A137C}"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4241-23B7-44D3-BBAE-D08176B11E9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6555-F9F3-4C55-8CEE-858B2125F398}"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E110-91B2-46A4-8DD2-58BF7819368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4FA6-4DEA-4F7A-AD67-88831C6FF026}"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90BE-6012-4119-A7E1-961E8EEDA5C8}"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4BA9-D4C6-4D9C-BD89-B3121BF94C22}"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FE21BDF-0C90-4822-A25A-2DF60A20BF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78A5C7-4365-4272-B881-F8F789457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DB9C409-D688-4F63-A358-2064E0A3BE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7C6E05C-D016-4C0C-8E00-2738DA960D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3F81B-4BC5-435C-9989-7E0A82EA4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1E012-B703-48CD-9BBE-836BE07CC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A4E81-FCDF-47B3-8751-F4C2CD223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F4B38-C91D-4182-A4F6-8540FED7D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4FF0A-0860-4A72-AECF-972E40E18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8F3E1-A6A8-42F1-80CD-E1E31F9ED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C7543-61C3-4642-BB1D-3536BEF24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20F861-34E5-4D2F-AC13-741A315E8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D7237-56C8-4FEF-B3DD-0F2607CBD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FD62-909A-4898-80F5-D338E45F0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40CFD-D21D-46AA-8897-662B49674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CA198-DEDC-4A29-B680-D27A2324E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08B49-8C2A-426C-9202-6EE31A3BD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EE07B99-5379-41BB-93B1-E80EDB743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35FF1E-12D8-40D6-8CA6-9AF946BE0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D3DEF5-DE72-4B98-9682-31C051850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3FDB85-24BF-49B7-9C32-4A75A5480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7DEC9A-C359-4927-BFAA-58C9C7364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D27FDDA-DAA7-4E6C-B4C4-465678782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216C2D-1FAD-473D-A3D7-FA6B693E50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BCB6-0295-4B30-A1B5-58C44FFA34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3627-5A8E-4455-A032-1ABAAF3C28AF}"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65B5-7E07-4653-BDE3-777A2EB7CB48}"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DE21-2995-4021-A950-EC4C271C1A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