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91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7"/>
          </p:nvPr>
        </p:nvSpPr>
        <p:spPr>
          <a:xfrm>
            <a:off x="-3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8"/>
          </p:nvPr>
        </p:nvSpPr>
        <p:spPr>
          <a:xfrm>
            <a:off x="38145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i-FI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A21CEF2-448B-4879-8078-7B2255B99CA0}" type="slidenum">
              <a:rPr b="0" lang="fi-FI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E7CF200-5294-4792-9ED6-0D68B219FBA8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90B8F56-3B48-4252-8505-1001D92141A5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FE0-DC18-4448-8ECF-64F41859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9B9-FDD6-4ED3-A354-F5E38B4E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BA4-BEB1-4DEB-8649-4FF61A91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0F0-D41B-4341-BAFE-5B728329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88415-F4F0-4606-9E20-131D9A17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45D17-9C91-418C-98ED-4001AA0A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2B5C0-FA7F-49E1-B3DC-6E626EF7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0302D-6EF5-4D07-AE65-5A4EB316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E1CE3-1B19-4E2D-9746-F2E82602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5CA99-049C-4396-951B-BEF9B4D6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604A6-A50E-479D-84DF-914E48AA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3F1-6706-4D94-820F-717FD4D9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8334C-0671-4BC8-A83E-B6A101A8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5794A-05DB-4855-9AC4-538FB073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E5772-3595-4868-82F3-21B6BBD6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99C0D-7364-4EEC-B175-0F496E94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4B09F-05A0-4E05-815C-C777F490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FE317-EF4F-4222-A7B8-C45C0283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2AE92-3D0A-44BC-9AC1-D1B7D6E3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C427-CCCF-472B-A08B-E48D0A27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7EAE1-2109-4E90-B839-61291332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4CE7D-536C-49CE-8167-C2D936C0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0727-A406-4F78-9D1C-4423B7DD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A2A18-EC97-4D24-A5FA-22F10209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1F984-7BC7-4020-BB07-62AE42E9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4E2D-B345-4980-BEC8-9B91D339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E3014-F357-48A9-9A80-A4C05042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BA24F-BC22-4B95-B46C-3053B170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65F0F-F3B3-4D72-A943-6FFCDDF9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A2EA8-31C2-41F5-9018-145A5BB4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5EC09-F05E-466E-BC84-8C3E8BFE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8C21E-8B65-44A5-82A8-720607F0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BAF95-92F8-4EAB-AEAB-50EAFF35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5FE-243B-4F63-A7CE-BF5CDC75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A5B86-4777-4378-8937-3226FCE4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B9D48-D58D-4E9B-941E-A363DB54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7E24E-1247-4132-8F80-16B0CC34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EC3A6-22E9-4E6C-A973-69808701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105CD-B0B7-45C3-8F24-52D043A4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443CD-4363-4D33-A90D-71075C47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6E948-724E-4DAB-B6F5-42C4D431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1439B-2908-436A-AB32-B4543A9D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E18F6-A3A9-4FB5-BF30-5D028974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EB282-8AF6-42CA-A802-F3A43620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817-6AA3-48FE-B40C-76CB8B7A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7CFCE-9816-4793-B9CF-9A390272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D574A-5C4B-436A-A764-82B75984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A6588-85AE-40DF-8C6B-848B5DD4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D25C0-876E-41E2-95BC-78129E24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9D193-CF47-440E-920D-ED81BBF5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82BF6-3D8E-49AC-BEC3-DC91D0A4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57F0C-473C-4837-AB74-BDA853CA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F22F5-F0A2-4540-9CB6-0AB4AF1C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5CCEA-9840-4278-8749-44348EB6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BC84E-F816-4070-B6CC-856831C0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B66-34E0-4804-BB57-82B2601C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9B130-E510-4BF6-BA30-55E815E8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EF5-A81C-4DB4-899F-C80972C1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E23-CBFE-42A2-85F8-F51338B6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52C-AF13-4718-AFC6-2CFA90D0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1CDB-1EAE-4ABD-B673-0EBFF9AC0062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5" name="Picture 10" descr="SHORT_THL_LOGO_RGB_large.jpg"/>
          <p:cNvPicPr/>
          <p:nvPr/>
        </p:nvPicPr>
        <p:blipFill>
          <a:blip r:embed="rId2"/>
          <a:stretch/>
        </p:blipFill>
        <p:spPr>
          <a:xfrm>
            <a:off x="3124080" y="4038480"/>
            <a:ext cx="2603520" cy="1063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7" name="Picture 14" descr="THL_KV_LOGO_PPT.JPG"/>
          <p:cNvPicPr/>
          <p:nvPr/>
        </p:nvPicPr>
        <p:blipFill>
          <a:blip r:embed="rId3"/>
          <a:stretch/>
        </p:blipFill>
        <p:spPr>
          <a:xfrm>
            <a:off x="2209680" y="5226120"/>
            <a:ext cx="4572000" cy="226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B990-1525-4EF1-9361-10E298781730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6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9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92" name="Suorakulmio 6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0443-26C9-4C48-ABA9-F366F21624A5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35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37" name="Suorakulmio 7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0F5A-1DA5-44E2-8EB4-E0674D877B39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8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82" name="Suorakulmio 5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3529-53B9-4DBF-997A-FA46EFCEA382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0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A14E-BCC3-4C19-852F-83338765287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43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RAC</a:t>
            </a:r>
            <a:r>
              <a:rPr b="1" lang="fi-FI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 Agency Risk Assessment Conferenc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68360" y="2631600"/>
            <a:ext cx="82072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The Finnish experiences since 2010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3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74" name="Picture 7" descr="ylabanneri_7.jpg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Aims of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authorities/agencie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hare information between authorities to increase the safety, health and well-being of victims and their childre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 the risk of har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, cut costs of violence, decrease unnecessary work, improve follow-up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victi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Reduce repeat victimization/reoccurrence of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rove the safety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f the victim of domestic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4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5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6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CEE3-288B-49AE-9EAC-5F072BAC897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8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9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4707-A115-4776-9E7C-78432E9EA9E4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0" name="Pyöristetty suorakulmio 4"/>
          <p:cNvSpPr/>
          <p:nvPr/>
        </p:nvSpPr>
        <p:spPr>
          <a:xfrm>
            <a:off x="2805120" y="246240"/>
            <a:ext cx="2305080" cy="10951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Identify the Victim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1" name="Pyöristetty suorakulmio 5"/>
          <p:cNvSpPr/>
          <p:nvPr/>
        </p:nvSpPr>
        <p:spPr>
          <a:xfrm>
            <a:off x="2805120" y="1557360"/>
            <a:ext cx="2305080" cy="100800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Do the Risk Assessment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(MARAC form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2" name="Pyöristetty suorakulmio 6"/>
          <p:cNvSpPr/>
          <p:nvPr/>
        </p:nvSpPr>
        <p:spPr>
          <a:xfrm>
            <a:off x="1258920" y="2708280"/>
            <a:ext cx="1657440" cy="1015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not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3" name="Alanuoli 7"/>
          <p:cNvSpPr/>
          <p:nvPr/>
        </p:nvSpPr>
        <p:spPr>
          <a:xfrm rot="2700000">
            <a:off x="3080880" y="2733120"/>
            <a:ext cx="432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4" name="Alanuoli 8"/>
          <p:cNvSpPr/>
          <p:nvPr/>
        </p:nvSpPr>
        <p:spPr>
          <a:xfrm rot="18900000">
            <a:off x="4379760" y="2733840"/>
            <a:ext cx="432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5" name="Pyöristetty suorakulmio 9"/>
          <p:cNvSpPr/>
          <p:nvPr/>
        </p:nvSpPr>
        <p:spPr>
          <a:xfrm>
            <a:off x="5003640" y="2708280"/>
            <a:ext cx="1656000" cy="1015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is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6" name="Pyöristetty suorakulmio 10"/>
          <p:cNvSpPr/>
          <p:nvPr/>
        </p:nvSpPr>
        <p:spPr>
          <a:xfrm>
            <a:off x="1035000" y="4038480"/>
            <a:ext cx="1160640" cy="1152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7" name="Pyöristetty suorakulmio 11"/>
          <p:cNvSpPr/>
          <p:nvPr/>
        </p:nvSpPr>
        <p:spPr>
          <a:xfrm>
            <a:off x="5003640" y="3951360"/>
            <a:ext cx="129708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Ask for consent for MARAC team handling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8" name="Pyöristetty suorakulmio 12"/>
          <p:cNvSpPr/>
          <p:nvPr/>
        </p:nvSpPr>
        <p:spPr>
          <a:xfrm>
            <a:off x="6408720" y="3936960"/>
            <a:ext cx="1116000" cy="115092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150920"/>
              <a:gd name="textAreaBottom" fmla="*/ 1096560 h 1150920"/>
            </a:gdLst>
            <a:ahLst/>
            <a:rect l="textAreaLeft" t="textAreaTop" r="textAreaRight" b="textAreaBottom"/>
            <a:pathLst>
              <a:path w="21600" h="22276">
                <a:moveTo>
                  <a:pt x="3600" y="0"/>
                </a:moveTo>
                <a:arcTo wR="3600" hR="3600" stAng="16200000" swAng="-5400000"/>
                <a:lnTo>
                  <a:pt x="0" y="18676"/>
                </a:lnTo>
                <a:arcTo wR="3600" hR="3600" stAng="10800000" swAng="-5400000"/>
                <a:lnTo>
                  <a:pt x="18000" y="222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 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9" name="Pyöristetty suorakulmio 13"/>
          <p:cNvSpPr/>
          <p:nvPr/>
        </p:nvSpPr>
        <p:spPr>
          <a:xfrm>
            <a:off x="7667640" y="3951360"/>
            <a:ext cx="1081080" cy="11523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152360"/>
              <a:gd name="textAreaBottom" fmla="*/ 1099800 h 1152360"/>
            </a:gdLst>
            <a:ahLst/>
            <a:rect l="textAreaLeft" t="textAreaTop" r="textAreaRight" b="textAreaBottom"/>
            <a:pathLst>
              <a:path w="21600" h="23024">
                <a:moveTo>
                  <a:pt x="3600" y="0"/>
                </a:moveTo>
                <a:arcTo wR="3600" hR="3600" stAng="16200000" swAng="-5400000"/>
                <a:lnTo>
                  <a:pt x="0" y="19424"/>
                </a:lnTo>
                <a:arcTo wR="3600" hR="3600" stAng="10800000" swAng="-5400000"/>
                <a:lnTo>
                  <a:pt x="18000" y="230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Offer contact to victim support 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0" name="Alanuoli 14"/>
          <p:cNvSpPr/>
          <p:nvPr/>
        </p:nvSpPr>
        <p:spPr>
          <a:xfrm rot="2700000">
            <a:off x="5181840" y="5301000"/>
            <a:ext cx="432000" cy="5032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1" name="Pyöristetty suorakulmio 15"/>
          <p:cNvSpPr/>
          <p:nvPr/>
        </p:nvSpPr>
        <p:spPr>
          <a:xfrm>
            <a:off x="2698920" y="5133960"/>
            <a:ext cx="2304720" cy="11527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Post the MARAC form and the consent form to the local MARAC team’s secret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e MARAC process 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4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41F8-FA47-447E-88A1-30175BACF3A9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754680" cy="4620960"/>
          </a:xfrm>
          <a:prstGeom prst="rect">
            <a:avLst/>
          </a:prstGeom>
          <a:ln w="0">
            <a:noFill/>
          </a:ln>
        </p:spPr>
      </p:pic>
      <p:sp>
        <p:nvSpPr>
          <p:cNvPr id="347" name="Nuoli oikealle 6"/>
          <p:cNvSpPr/>
          <p:nvPr/>
        </p:nvSpPr>
        <p:spPr>
          <a:xfrm>
            <a:off x="468360" y="2090880"/>
            <a:ext cx="934920" cy="57456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439560" y="3645000"/>
            <a:ext cx="963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0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1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0D5E-D606-4260-BBB5-0B854B85EB0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004760" y="23760"/>
            <a:ext cx="7134480" cy="5886360"/>
          </a:xfrm>
          <a:prstGeom prst="rect">
            <a:avLst/>
          </a:prstGeom>
          <a:ln w="0">
            <a:noFill/>
          </a:ln>
        </p:spPr>
      </p:pic>
      <p:sp>
        <p:nvSpPr>
          <p:cNvPr id="353" name="Tekstiruutu 4"/>
          <p:cNvSpPr/>
          <p:nvPr/>
        </p:nvSpPr>
        <p:spPr>
          <a:xfrm>
            <a:off x="324000" y="692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The risk assesment form is a tool for mapping violence: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isk Indicator Checklis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355" name="Sisällön paikkamerkki 2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45520" cy="4992480"/>
          </a:xfrm>
          <a:prstGeom prst="rect">
            <a:avLst/>
          </a:prstGeom>
          <a:ln w="0">
            <a:noFill/>
          </a:ln>
        </p:spPr>
      </p:pic>
      <p:sp>
        <p:nvSpPr>
          <p:cNvPr id="35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7" name="Alatunnisteen paikkamerkki 4"/>
          <p:cNvSpPr/>
          <p:nvPr/>
        </p:nvSpPr>
        <p:spPr>
          <a:xfrm>
            <a:off x="1541520" y="6597720"/>
            <a:ext cx="604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EE9E-9F0F-43BD-8902-9DF03EE50ED1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n example of the MARAC-team’s Agenda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88560"/>
            <a:ext cx="821844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genda of the MARAC-team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Time: Wednesday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28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1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2018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 at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3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0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Place: </a:t>
            </a:r>
            <a:r>
              <a:rPr b="0" lang="lt-LT" sz="1800" spc="-1" strike="noStrike">
                <a:solidFill>
                  <a:srgbClr val="303030"/>
                </a:solidFill>
                <a:latin typeface="Arial"/>
              </a:rPr>
              <a:t>Leona Paegles 1, Cesi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Opening of the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pproval of Agenda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Minutes of previous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omination of Chair and Secretary for 2018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Status of case 9/2017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KM1/2018, presented by polic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HK 2/2018, presented by social services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xt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Closing of the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B79B-EC3A-46AC-B133-5551C44D3A24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sults of the model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2828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UK police: MARAC decreased reoccurring of domestic violence cases by 2/3 (2004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Cardiff: 60 % of victims handled by MARAC did not face reoccurrance of violence in the following 6 months (2004, 2009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Finland, after 6 months of entering MARAC, 15 % of victims had faced reoccurrence of domestic violence (when 6 months prior to entering, likelyhood of reoccurrance was at 60% level), thus, MARAC reduced reoccurring crime offence reports by over 70 %  (2015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B120-A5F9-4F95-B27F-6F82B7172D96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THL study of the effectivity (2010-2015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ata collection: Police records, victim interview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382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cases have been referred to MARAC in Finland during 1.10.2010-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0.3.2015 , who gave consent to use data in the study (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95 % of victims are wome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Police files were pulled six months after the MARAC was held (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N=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03030"/>
                </a:solidFill>
                <a:latin typeface="Arial"/>
              </a:rPr>
              <a:t>365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terviews (n=70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3BA7-E310-40BA-8ADB-73BB3EBEA6D0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ge of the victim referred to MARAC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1484280"/>
          <a:ext cx="8218440" cy="296712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-2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5-3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5-4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5-5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5-6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Not specified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8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</a:tbl>
          </a:graphicData>
        </a:graphic>
      </p:graphicFrame>
      <p:sp>
        <p:nvSpPr>
          <p:cNvPr id="37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C268-BB62-4A34-ADA5-CAD86ADC514E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9" name="Tekstiruutu 8"/>
          <p:cNvSpPr/>
          <p:nvPr/>
        </p:nvSpPr>
        <p:spPr>
          <a:xfrm>
            <a:off x="1289880" y="5181480"/>
            <a:ext cx="43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Most often victims are 25-44 years ol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eoccurrence of violence and abuse</a:t>
            </a:r>
            <a:br>
              <a:rPr sz="2800"/>
            </a:b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(recorded before and 6 months after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57200" y="1484280"/>
          <a:ext cx="8218440" cy="231156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0.2010-30.3.201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36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prior to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32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6 months after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</a:tbl>
          </a:graphicData>
        </a:graphic>
      </p:graphicFrame>
      <p:sp>
        <p:nvSpPr>
          <p:cNvPr id="3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976A-7DD1-44DD-BC63-666895958CC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5" name="Tekstiruutu 7"/>
          <p:cNvSpPr/>
          <p:nvPr/>
        </p:nvSpPr>
        <p:spPr>
          <a:xfrm>
            <a:off x="1163160" y="4537080"/>
            <a:ext cx="72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Re-</a:t>
            </a:r>
            <a:r>
              <a:rPr b="0" lang="en-GB" sz="1800" spc="-1" strike="noStrike">
                <a:solidFill>
                  <a:srgbClr val="303030"/>
                </a:solidFill>
                <a:latin typeface="Arial"/>
                <a:ea typeface="Arial"/>
              </a:rPr>
              <a:t>victimisation was reduced in more than 70 per cent of the case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Structure of the presentation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y: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Prevalence and impact of violence against women and domestic violence in Europe 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at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is MARAC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How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MARAC works and our experiences of its effectivity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7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8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9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899E-5026-40C4-8A9F-134694ACE718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77F4-9E11-499D-ADEF-5F63326029E6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9" name="Tekstiruutu 4"/>
          <p:cNvSpPr/>
          <p:nvPr/>
        </p:nvSpPr>
        <p:spPr>
          <a:xfrm>
            <a:off x="755640" y="907920"/>
            <a:ext cx="287964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0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MARAC in Finland in 2017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overs over 2,5 million inhabitants (population of 5,4 millio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4 MARAC teams function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Over 100 municipalities, 1-3 in each County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90" name="Kuva 5" descr=""/>
          <p:cNvPicPr/>
          <p:nvPr/>
        </p:nvPicPr>
        <p:blipFill>
          <a:blip r:embed="rId1"/>
          <a:stretch/>
        </p:blipFill>
        <p:spPr>
          <a:xfrm>
            <a:off x="3995640" y="836640"/>
            <a:ext cx="482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Key factors for succeeding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303030"/>
                </a:solidFill>
                <a:uFillTx/>
                <a:latin typeface="Arial"/>
              </a:rPr>
              <a:t>When adapting the model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eparat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funds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/project funds necessary for start-up/pilot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For the model to work, asking about violence should be mad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routine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 in client encounters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ystematic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training of professionals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rucia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Winning over the hearts and minds of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uperior(s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178C-B3B0-4355-85DB-3D6D0469C51E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with regard to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nland ratified the 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Istanbul Convention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(CoE Convention on preventing and combating violence against women and domestic violence) in 1.8.2015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bligates the state to fully address Violence against Women it in all its forms and to take measure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ven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violence against wom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tec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its victims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secute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the perpetrators.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18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fective multi-agency collaboratio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51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sk assessment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nd risk managemen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8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9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0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A6DD-36CE-437B-9DC9-58A0006EB580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(continues)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New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ocial Welfare Act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orce 1.4.2015. 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Obligates the local municipalities to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ovide services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o a person encountering violence, incl. Domestic and Interpersonal Violence.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e Act on reimbursement out of State funds for providers of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helters for victims of domestic violenc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rce 1.1.2015.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financed by the state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uarantees qualitative and comprehensive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rvices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ar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pen for anyone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– women, men and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hildren of all ages – who have experienced acts or are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reatened by acts of domestic violence. (Children usually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tay in the shelter with their parent.)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4E8C-8A69-4F46-A5C9-538F3ACA76B0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62EA-B636-40FE-9D5F-7095A7EA449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843280" y="289080"/>
            <a:ext cx="3456000" cy="6279840"/>
          </a:xfrm>
          <a:prstGeom prst="rect">
            <a:avLst/>
          </a:prstGeom>
          <a:ln w="0">
            <a:noFill/>
          </a:ln>
        </p:spPr>
      </p:pic>
      <p:sp>
        <p:nvSpPr>
          <p:cNvPr id="410" name="Tekstiruutu 4"/>
          <p:cNvSpPr/>
          <p:nvPr/>
        </p:nvSpPr>
        <p:spPr>
          <a:xfrm>
            <a:off x="324000" y="1484280"/>
            <a:ext cx="419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Shelters in Finland 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in 2017: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Now 143 places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T.b. Increased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Funding +40 %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ank you!</a:t>
            </a:r>
            <a:br>
              <a:rPr sz="3600"/>
            </a:b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9280" y="378936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martta.october@thl.fi, +358 29 524 7710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thl.fi/marak (mostly in Finnish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safelives.org.uk (MARAC info/UK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C7F0-B449-47A5-9D05-3A780929171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16" name="Picture 2" descr="M:\_Pictures\pöllöt.PNG"/>
          <p:cNvPicPr/>
          <p:nvPr/>
        </p:nvPicPr>
        <p:blipFill>
          <a:blip r:embed="rId1"/>
          <a:stretch/>
        </p:blipFill>
        <p:spPr>
          <a:xfrm>
            <a:off x="1593720" y="1052640"/>
            <a:ext cx="5913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5640" y="-150120"/>
            <a:ext cx="7559640" cy="4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v-LV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81" name="Sisällön paikkamerkki 6" descr="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165720"/>
          </a:xfrm>
          <a:prstGeom prst="rect">
            <a:avLst/>
          </a:prstGeom>
          <a:ln w="0">
            <a:noFill/>
          </a:ln>
        </p:spPr>
      </p:pic>
      <p:sp>
        <p:nvSpPr>
          <p:cNvPr id="2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2B8F-5DAC-4AB9-87E1-BD66B2B5297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6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7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0EFC-5A62-4D45-8EB1-5B040E9D96D1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88" name="Kuva 4" descr=""/>
          <p:cNvPicPr/>
          <p:nvPr/>
        </p:nvPicPr>
        <p:blipFill>
          <a:blip r:embed="rId1"/>
          <a:stretch/>
        </p:blipFill>
        <p:spPr>
          <a:xfrm>
            <a:off x="609480" y="0"/>
            <a:ext cx="791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Domestic violence (even only between parents) is an ACE (Adverse Childhood Experience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90" name="Sisällön paikkamerkki 7" descr=""/>
          <p:cNvPicPr/>
          <p:nvPr/>
        </p:nvPicPr>
        <p:blipFill>
          <a:blip r:embed="rId1"/>
          <a:stretch/>
        </p:blipFill>
        <p:spPr>
          <a:xfrm>
            <a:off x="900000" y="1339920"/>
            <a:ext cx="6985080" cy="4951440"/>
          </a:xfrm>
          <a:prstGeom prst="rect">
            <a:avLst/>
          </a:prstGeom>
          <a:ln w="0">
            <a:noFill/>
          </a:ln>
        </p:spPr>
      </p:pic>
      <p:sp>
        <p:nvSpPr>
          <p:cNvPr id="29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5693-DF34-4BB1-A831-24751A93949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519b2f"/>
                </a:solidFill>
                <a:latin typeface="Arial"/>
              </a:rPr>
              <a:t>Homicides in Intimate partner relationships in Finland</a:t>
            </a:r>
            <a:endParaRPr b="1" lang="en-US" sz="32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95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6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7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C3E8-AA2C-4592-BD7C-C32819A8B9A2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397160" y="1674720"/>
            <a:ext cx="63388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Violence against women in intimate partner relations </a:t>
            </a:r>
            <a:br>
              <a:rPr sz="2800"/>
            </a:b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– the whole pictur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0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1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2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C992-BC2B-4763-A73D-D4CE2E2F15E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54800" cy="4068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3"/>
          <a:stretch/>
        </p:blipFill>
        <p:spPr>
          <a:xfrm>
            <a:off x="2073240" y="309564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4"/>
          <a:stretch/>
        </p:blipFill>
        <p:spPr>
          <a:xfrm>
            <a:off x="1447920" y="4229280"/>
            <a:ext cx="804600" cy="158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5"/>
          <a:stretch/>
        </p:blipFill>
        <p:spPr>
          <a:xfrm>
            <a:off x="7770960" y="3174840"/>
            <a:ext cx="128520" cy="1694160"/>
          </a:xfrm>
          <a:prstGeom prst="rect">
            <a:avLst/>
          </a:prstGeom>
          <a:ln w="0">
            <a:noFill/>
          </a:ln>
        </p:spPr>
      </p:pic>
      <p:sp>
        <p:nvSpPr>
          <p:cNvPr id="308" name="Tekstiruutu 6"/>
          <p:cNvSpPr/>
          <p:nvPr/>
        </p:nvSpPr>
        <p:spPr>
          <a:xfrm>
            <a:off x="324000" y="2060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21/year on averag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2003-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9" name="Tekstiruutu 8"/>
          <p:cNvSpPr/>
          <p:nvPr/>
        </p:nvSpPr>
        <p:spPr>
          <a:xfrm>
            <a:off x="755640" y="278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300/year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in 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0" name="Tekstiruutu 9"/>
          <p:cNvSpPr/>
          <p:nvPr/>
        </p:nvSpPr>
        <p:spPr>
          <a:xfrm>
            <a:off x="324000" y="3860640"/>
            <a:ext cx="13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10 % of al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victim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1" name="Tekstiruutu 10"/>
          <p:cNvSpPr/>
          <p:nvPr/>
        </p:nvSpPr>
        <p:spPr>
          <a:xfrm>
            <a:off x="324000" y="4869000"/>
            <a:ext cx="23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0% of females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over the age of 15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2" name="Tekstiruutu 11"/>
          <p:cNvSpPr/>
          <p:nvPr/>
        </p:nvSpPr>
        <p:spPr>
          <a:xfrm>
            <a:off x="6732720" y="1628640"/>
            <a:ext cx="480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nnually 8 %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f the people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 intimate partner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relationship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(approx. 100 000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4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5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DB84-5FFD-4453-875F-D53AE1FCDD4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09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What is MARAC?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MARAC is a local, multi agency victim-focused meeting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e risk assessment process is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ult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ctim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ious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omestic violence/abus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the meetings information is shared on the highest risk cases of domestic violence and abuse between different statutory and voluntary sector agencie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Finland, MARAC procedures and standards for operating MARAC meetings are coordinated by THL (National Institute for Health and Welfare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Video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 u="sng">
                <a:solidFill>
                  <a:srgbClr val="303030"/>
                </a:solidFill>
                <a:uFillTx/>
                <a:latin typeface="Arial"/>
              </a:rPr>
              <a:t>https://www.youtube.com/watch?v=alje4zJOHIw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0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1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A0D5-ECEA-4566-98FB-EDD647E5511A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7:05Z</dcterms:created>
  <dc:creator>Jaakko Säkö</dc:creator>
  <dc:description/>
  <dc:language>en-US</dc:language>
  <cp:lastModifiedBy>Laura Kornete</cp:lastModifiedBy>
  <cp:lastPrinted>2018-11-28T07:41:21Z</cp:lastPrinted>
  <dcterms:modified xsi:type="dcterms:W3CDTF">2019-04-03T07:49:52Z</dcterms:modified>
  <cp:revision>95</cp:revision>
  <dc:subject>suomi</dc:subject>
  <dc:title>Dia 1</dc:title>
</cp:coreProperties>
</file>