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4AE8-8C93-4315-A012-BC8485FC72EA}" type="datetime">
              <a:rPr b="0" lang="en-US" sz="1200" spc="-1" strike="noStrike">
                <a:solidFill>
                  <a:srgbClr val="2f2b20"/>
                </a:solidFill>
                <a:latin typeface="Times New Roman"/>
              </a:rPr>
              <a:t>07/28/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3A99-4D36-4960-8E50-F4C1ED6D21C0}"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D4FF-D963-4187-AE36-C3496A0801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507F-20A9-4352-A32D-631CCE0BBA77}"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98DF-7317-4911-97CF-D9B7FD9C73DF}"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4910-252B-4D38-B2BE-35CE30715D5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BB51-5383-467B-B751-5225EA3EDEB6}"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B2A0-1ED2-480C-A8B9-C9770009A368}"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349B-9F87-4F56-95D7-9FA4EA19799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B4B6-0EA7-444D-A4C9-29E636C79A3E}"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6A00-EE9E-4639-9674-81B32DF50170}"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D524-0DD2-4FB4-A2C0-87EE76A27C07}"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D59B-99C3-436C-87AB-FE4214707F4F}"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D89D-DD8A-4011-8736-CADA4D64E2E9}"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5EC2-4D7B-408F-BD6D-D9DC1BC68D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0B72-8B48-40FE-9C47-A7EFCCD946CA}"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CD07-77AD-4D74-A616-8EA44D8B709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98E0-24FF-4477-B4C9-42EB1AA75FDA}"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6E53-DE02-4741-8249-21199541DFC1}"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1B344-3FAC-4E6D-B782-9E806DAE6A92}"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E690-56E9-4172-B14C-0E0A1D747A7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1CF1-172F-4056-9F03-5CC9CEA93D07}"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4D78-D833-41A3-BF13-229801D9547B}"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D8B7-2CD7-4B43-8714-FF5B0FFFED3A}"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552D-791A-4586-B93A-99E662ABD7B1}"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5FB0-E75C-46BD-A560-B62F18CA6625}"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546D-5905-429D-A0DD-DC79CCCFBAEC}"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3CB3-4ED6-468E-8936-565B8D2C11EA}"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A354D27-4CB5-4193-B045-BB15C6E0F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886E29-AEA2-4D45-9CFF-7A5FC34A4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E55D13E-2743-4CA7-A69C-C272728B7A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F3322A6-734E-4FB3-ACD7-9637367FB4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52B62-37EC-4CEB-9F0B-15DAB5FE0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E0903-88F9-4EB9-AD5A-53FBCFA7B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D64EF-6939-4720-9CE9-8E4DF9079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B9DB9-3BDA-4E2E-84A4-100D43B55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E4748-1733-4270-AAB2-A3797317B3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6C35D-B33E-48EC-9BB1-A009B4F9F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016E0-ED29-4A5E-B9C2-04D853EE2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EE42C0-5DB6-4E0F-8FB8-DFC4EA321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355E8-05BB-4E45-B6CE-29B82E343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D65A0-442B-4173-AEC4-CC4928F2A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296B1-6BCD-4243-9AD8-52752B18C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AC26C-0FB4-4BDB-B292-46DA355A9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4DE4B-CA67-4C49-8B3A-2000BB0C3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47B1C66-3D17-4F3C-9EF7-9F7481F73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7DBB36-A677-4027-ADC2-2880D68A2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E95093-61A8-481E-BFC4-BE6A94DC8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C472C1-2A94-4AF8-9E8E-B67B93C4B2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32AC37-439B-4FE0-A19B-E3B73BC9A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F70063-AF0F-402B-A31D-1775F70A2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11330A-B97D-4111-8406-94531CAC04B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7F78-E49E-4F97-8D0C-7DDB25F41F7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D991-01FB-44FA-A6AB-69F2EA39E1E9}" type="datetime">
              <a:rPr b="0" lang="en-US" sz="1200" spc="-1" strike="noStrike">
                <a:solidFill>
                  <a:srgbClr val="dcc718"/>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3843-C8BE-4BF2-AA7D-F2E8A9CCCD4B}" type="datetime">
              <a:rPr b="0" lang="en-US" sz="1200" spc="-1" strike="noStrike">
                <a:solidFill>
                  <a:srgbClr val="dcc718"/>
                </a:solidFill>
                <a:latin typeface="Times New Roman"/>
              </a:rPr>
              <a:t>07/28/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6177-80A2-4027-909B-B10BFAB9A0E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