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10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dt" idx="16"/>
          </p:nvPr>
        </p:nvSpPr>
        <p:spPr>
          <a:xfrm>
            <a:off x="3814560" y="-36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Img"/>
          </p:nvPr>
        </p:nvSpPr>
        <p:spPr>
          <a:xfrm>
            <a:off x="903240" y="740880"/>
            <a:ext cx="492912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7480" rIns="87480" tIns="43920" bIns="4392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8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ftr" idx="17"/>
          </p:nvPr>
        </p:nvSpPr>
        <p:spPr>
          <a:xfrm>
            <a:off x="-360" y="937224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 type="sldNum" idx="18"/>
          </p:nvPr>
        </p:nvSpPr>
        <p:spPr>
          <a:xfrm>
            <a:off x="3814560" y="937224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fi-FI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00DA403-CBC6-45B1-81F8-84EDF24027DC}" type="slidenum">
              <a:rPr b="0" lang="fi-FI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Dian numeron paikkamerkki 3"/>
          <p:cNvSpPr/>
          <p:nvPr/>
        </p:nvSpPr>
        <p:spPr>
          <a:xfrm>
            <a:off x="3814920" y="937260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1E3051E-0D5C-4788-8441-C72710513B2B}" type="slidenum">
              <a:rPr b="0" lang="fi-FI" sz="900" spc="-1" strike="noStrike">
                <a:solidFill>
                  <a:srgbClr val="30303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Dian numeron paikkamerkki 3"/>
          <p:cNvSpPr/>
          <p:nvPr/>
        </p:nvSpPr>
        <p:spPr>
          <a:xfrm>
            <a:off x="3814920" y="937260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93E1A43-49D7-40B2-88F8-69C43681195B}" type="slidenum">
              <a:rPr b="0" lang="fi-FI" sz="900" spc="-1" strike="noStrike">
                <a:solidFill>
                  <a:srgbClr val="30303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27F7-A6E7-4741-9EEB-8C869E727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BCF9-BF6B-4D5E-A2DA-BCE37671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AEC1-C29C-4C81-8839-2B1D34854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3BC7-A541-47FA-9343-CD378790C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A7E52-B16E-436B-A764-6E0D6858C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206B1-1C1F-4547-B089-5E82DB46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C8AC9-D0B0-4188-9D08-B041B7CC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6C15E-10B7-4C66-B7D7-000FD49E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4E15C9-4C13-4BDC-9DEA-B67192B2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7BFA3-0F51-4B17-B1F8-4F1B2FCD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46A69-8B5E-4702-A71C-8BCFD3F6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7A64-21C5-441E-AEF3-0F0BEA59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821C2-7490-4969-95C9-90269AB4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D7322-908B-4A18-9AB2-01A417B9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F866A0-E9F8-4F58-A20D-22C2FFC0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532D8-FF68-4332-A020-B5B163068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0FFD8-5AAF-4C16-B50F-4FD45AA09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11DB0-417D-4AD7-8A28-C1A027E40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A2791-433B-4B72-A4B3-416C81FE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E180A-FBFD-4930-83EB-E853745C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9E152-47CE-459A-BB78-47FA8C0F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5F79C-FD62-417F-AD40-DEC03576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A356-1E22-407C-AD84-EC4B8CB8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1D656-FA47-4330-B03B-298773B3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F50BE-AF70-45AE-AFA5-0F43B3CE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D4816-11BE-442A-8D13-B8792E27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E1C1A-4C53-4148-9B23-E6A6548F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49FFE-38D3-4349-B6E5-62EF6173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83123-3B34-4C69-89F4-AC36B94CD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48F4C-1406-489B-B91C-F7A7E98A5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6AF41-D94F-482D-BBE7-775F46BA1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C24CE-1EEB-4ECF-910F-B7FC7AFA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BDC36-244B-443C-8493-BAB71A45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B093-6204-46C1-96C6-41687DD7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FBBB4-2D16-43D7-A17F-BBC705A3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BFC29-1194-4855-A7F1-CEF83A1E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379A0-A7F7-4649-8A30-D80FC8AB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62C9A-2215-4570-96FF-5B6652C5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95FD1-541B-4BDE-820E-01544AF7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5CA2D-A170-4A57-A5D2-11213334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9E6CC-C0BE-4017-A1BC-7DAAFA5B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87222-8100-4280-B27A-3C0987888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7D9C9-CB2C-4853-B223-E9BE382F6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DC593-88DD-47F4-8116-6B27B5625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EE6B-9C6B-47A5-8EA8-6FCA6AE7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62402-2F75-48E2-A32E-3FE02F83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CCA46-A8F0-40CB-B1C8-712FC304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4EF72-4790-402B-88C2-D1039FCE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192B0-2FA8-40DC-8E02-3AB3B91E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9F7CA-F96F-435C-BD78-8A9C9783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F1869-BF65-43E9-9526-96769380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46D53-DB51-4502-A783-C23A1C64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ED43E-BAC8-4023-86B6-AEAF0503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C59B6-D0F1-4AF1-9FBA-236A0E82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FCA1E-2ED0-413B-A3E8-03B2C4E1C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DD7C-4B27-4898-B4CC-D15737EB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CD70C-D88D-438F-B565-D7E3F5C68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B2E7-695F-43F5-A1C8-44FD7F82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A91C-FDEE-44DD-A6EE-EEF53A35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94A5-1184-443F-B029-835DDCAA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lv-LV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Times New Roman"/>
              </a:rPr>
              <a:t>28.11.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Martta Octo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3FD0-A445-427E-B1CD-ACE0512C6E3C}" type="slidenum"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1" descr="SHORT_THL_LOGO_WEB_186x80px.jpg"/>
          <p:cNvPicPr/>
          <p:nvPr/>
        </p:nvPicPr>
        <p:blipFill>
          <a:blip r:embed="rId2"/>
          <a:srcRect l="0" t="9674" r="0" b="12828"/>
          <a:stretch/>
        </p:blipFill>
        <p:spPr>
          <a:xfrm>
            <a:off x="152280" y="5994360"/>
            <a:ext cx="1524240" cy="5079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2" descr="THL_KV_LOGO_PPT.JPG"/>
          <p:cNvPicPr/>
          <p:nvPr/>
        </p:nvPicPr>
        <p:blipFill>
          <a:blip r:embed="rId3"/>
          <a:stretch/>
        </p:blipFill>
        <p:spPr>
          <a:xfrm>
            <a:off x="4368960" y="6273720"/>
            <a:ext cx="4572000" cy="22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1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45" name="Picture 10" descr="SHORT_THL_LOGO_RGB_large.jpg"/>
          <p:cNvPicPr/>
          <p:nvPr/>
        </p:nvPicPr>
        <p:blipFill>
          <a:blip r:embed="rId2"/>
          <a:stretch/>
        </p:blipFill>
        <p:spPr>
          <a:xfrm>
            <a:off x="3124080" y="4038480"/>
            <a:ext cx="2603520" cy="10638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0" y="0"/>
            <a:ext cx="9144000" cy="380988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47" name="Picture 14" descr="THL_KV_LOGO_PPT.JPG"/>
          <p:cNvPicPr/>
          <p:nvPr/>
        </p:nvPicPr>
        <p:blipFill>
          <a:blip r:embed="rId3"/>
          <a:stretch/>
        </p:blipFill>
        <p:spPr>
          <a:xfrm>
            <a:off x="2209680" y="5226120"/>
            <a:ext cx="4572000" cy="226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lv-LV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Times New Roman"/>
              </a:rPr>
              <a:t>28.11.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9E7F-81B3-4996-ACB9-A6122BE101A5}" type="slidenum"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6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Martta Octo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1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90" name="Picture 11" descr="SHORT_THL_LOGO_WEB_186x80px.jpg"/>
          <p:cNvPicPr/>
          <p:nvPr/>
        </p:nvPicPr>
        <p:blipFill>
          <a:blip r:embed="rId2"/>
          <a:srcRect l="0" t="9674" r="0" b="12828"/>
          <a:stretch/>
        </p:blipFill>
        <p:spPr>
          <a:xfrm>
            <a:off x="152280" y="5994360"/>
            <a:ext cx="1524240" cy="507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THL_KV_LOGO_PPT.JPG"/>
          <p:cNvPicPr/>
          <p:nvPr/>
        </p:nvPicPr>
        <p:blipFill>
          <a:blip r:embed="rId3"/>
          <a:stretch/>
        </p:blipFill>
        <p:spPr>
          <a:xfrm>
            <a:off x="4368960" y="6273720"/>
            <a:ext cx="4572000" cy="225360"/>
          </a:xfrm>
          <a:prstGeom prst="rect">
            <a:avLst/>
          </a:prstGeom>
          <a:ln w="0">
            <a:noFill/>
          </a:ln>
        </p:spPr>
      </p:pic>
      <p:sp>
        <p:nvSpPr>
          <p:cNvPr id="92" name="Suorakulmio 6"/>
          <p:cNvSpPr/>
          <p:nvPr/>
        </p:nvSpPr>
        <p:spPr>
          <a:xfrm>
            <a:off x="250920" y="1484280"/>
            <a:ext cx="8642160" cy="4392720"/>
          </a:xfrm>
          <a:prstGeom prst="rect">
            <a:avLst/>
          </a:prstGeom>
          <a:solidFill>
            <a:srgbClr val="519b2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lv-LV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Times New Roman"/>
              </a:rPr>
              <a:t>28.11.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Martta Octo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40BE-981A-4192-BEB2-06F574F9E01F}" type="slidenum"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1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135" name="Picture 11" descr="SHORT_THL_LOGO_WEB_186x80px.jpg"/>
          <p:cNvPicPr/>
          <p:nvPr/>
        </p:nvPicPr>
        <p:blipFill>
          <a:blip r:embed="rId2"/>
          <a:srcRect l="0" t="9674" r="0" b="12828"/>
          <a:stretch/>
        </p:blipFill>
        <p:spPr>
          <a:xfrm>
            <a:off x="152280" y="5994360"/>
            <a:ext cx="1524240" cy="507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THL_KV_LOGO_PPT.JPG"/>
          <p:cNvPicPr/>
          <p:nvPr/>
        </p:nvPicPr>
        <p:blipFill>
          <a:blip r:embed="rId3"/>
          <a:stretch/>
        </p:blipFill>
        <p:spPr>
          <a:xfrm>
            <a:off x="4368960" y="6273720"/>
            <a:ext cx="4572000" cy="225360"/>
          </a:xfrm>
          <a:prstGeom prst="rect">
            <a:avLst/>
          </a:prstGeom>
          <a:ln w="0">
            <a:noFill/>
          </a:ln>
        </p:spPr>
      </p:pic>
      <p:sp>
        <p:nvSpPr>
          <p:cNvPr id="137" name="Suorakulmio 7"/>
          <p:cNvSpPr/>
          <p:nvPr/>
        </p:nvSpPr>
        <p:spPr>
          <a:xfrm>
            <a:off x="250920" y="1484280"/>
            <a:ext cx="8642160" cy="4392720"/>
          </a:xfrm>
          <a:prstGeom prst="rect">
            <a:avLst/>
          </a:prstGeom>
          <a:solidFill>
            <a:srgbClr val="519b2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lv-LV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Times New Roman"/>
              </a:rPr>
              <a:t>28.11.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Martta Octo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A655-5278-45BC-89B7-71362A6D8E17}" type="slidenum"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1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180" name="Picture 11" descr="SHORT_THL_LOGO_WEB_186x80px.jpg"/>
          <p:cNvPicPr/>
          <p:nvPr/>
        </p:nvPicPr>
        <p:blipFill>
          <a:blip r:embed="rId2"/>
          <a:srcRect l="0" t="9674" r="0" b="12828"/>
          <a:stretch/>
        </p:blipFill>
        <p:spPr>
          <a:xfrm>
            <a:off x="152280" y="5994360"/>
            <a:ext cx="1524240" cy="507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THL_KV_LOGO_PPT.JPG"/>
          <p:cNvPicPr/>
          <p:nvPr/>
        </p:nvPicPr>
        <p:blipFill>
          <a:blip r:embed="rId3"/>
          <a:stretch/>
        </p:blipFill>
        <p:spPr>
          <a:xfrm>
            <a:off x="4368960" y="6273720"/>
            <a:ext cx="4572000" cy="225360"/>
          </a:xfrm>
          <a:prstGeom prst="rect">
            <a:avLst/>
          </a:prstGeom>
          <a:ln w="0">
            <a:noFill/>
          </a:ln>
        </p:spPr>
      </p:pic>
      <p:sp>
        <p:nvSpPr>
          <p:cNvPr id="182" name="Suorakulmio 5"/>
          <p:cNvSpPr/>
          <p:nvPr/>
        </p:nvSpPr>
        <p:spPr>
          <a:xfrm>
            <a:off x="250920" y="1484280"/>
            <a:ext cx="8642160" cy="4392720"/>
          </a:xfrm>
          <a:prstGeom prst="rect">
            <a:avLst/>
          </a:prstGeom>
          <a:solidFill>
            <a:srgbClr val="519b2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lv-LV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Times New Roman"/>
              </a:rPr>
              <a:t>28.11.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Martta Octo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0D29-C05C-43DE-B033-E795198C19A0}" type="slidenum"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0" name="Dian numeron paikkamerkki 4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7DB4-2ECE-4556-B01B-EA9A0BD49EC3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1143000"/>
            <a:ext cx="8207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MARAC</a:t>
            </a:r>
            <a:r>
              <a:rPr b="1" lang="fi-FI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lti Agency Risk Assessment Conference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68360" y="2631600"/>
            <a:ext cx="8207280" cy="9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The Finnish experiences since 2010</a:t>
            </a: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3" name="Alatunnisteen paikkamerkki 5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274" name="Picture 7" descr="ylabanneri_7.jpg"/>
          <p:cNvPicPr/>
          <p:nvPr/>
        </p:nvPicPr>
        <p:blipFill>
          <a:blip r:embed="rId1"/>
          <a:stretch/>
        </p:blipFill>
        <p:spPr>
          <a:xfrm>
            <a:off x="0" y="5778360"/>
            <a:ext cx="9144000" cy="7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Aims of MARAC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03030"/>
                </a:solidFill>
                <a:uFillTx/>
                <a:latin typeface="Arial"/>
              </a:rPr>
              <a:t>For the authorities/agencies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hare information between authorities to increase the safety, health and well-being of victims and their children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duce the risk of harm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, cut costs of violence, decrease unnecessary work, improve follow-up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03030"/>
                </a:solidFill>
                <a:uFillTx/>
                <a:latin typeface="Arial"/>
              </a:rPr>
              <a:t>For the victim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Reduce repeat victimization/reoccurrence of violence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mprove the safety 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of the victim of domestic violence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4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5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6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7711-7252-43C1-8B14-D4DB0FE3C853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8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9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14DC-0461-4AA4-B638-7946D38C61CD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0" name="Pyöristetty suorakulmio 4"/>
          <p:cNvSpPr/>
          <p:nvPr/>
        </p:nvSpPr>
        <p:spPr>
          <a:xfrm>
            <a:off x="2805120" y="246240"/>
            <a:ext cx="2305080" cy="1095120"/>
          </a:xfrm>
          <a:prstGeom prst="roundRect">
            <a:avLst>
              <a:gd name="adj" fmla="val 16667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Identify the Victim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1" name="Pyöristetty suorakulmio 5"/>
          <p:cNvSpPr/>
          <p:nvPr/>
        </p:nvSpPr>
        <p:spPr>
          <a:xfrm>
            <a:off x="2805120" y="1557360"/>
            <a:ext cx="2305080" cy="1008000"/>
          </a:xfrm>
          <a:prstGeom prst="roundRect">
            <a:avLst>
              <a:gd name="adj" fmla="val 16667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Do the Risk Assessment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(MARAC form)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2" name="Pyöristetty suorakulmio 6"/>
          <p:cNvSpPr/>
          <p:nvPr/>
        </p:nvSpPr>
        <p:spPr>
          <a:xfrm>
            <a:off x="1258920" y="2708280"/>
            <a:ext cx="1657440" cy="10159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Risk not elevated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3" name="Alanuoli 7"/>
          <p:cNvSpPr/>
          <p:nvPr/>
        </p:nvSpPr>
        <p:spPr>
          <a:xfrm rot="2700000">
            <a:off x="3080880" y="2733120"/>
            <a:ext cx="432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4" name="Alanuoli 8"/>
          <p:cNvSpPr/>
          <p:nvPr/>
        </p:nvSpPr>
        <p:spPr>
          <a:xfrm rot="18900000">
            <a:off x="4379760" y="2733840"/>
            <a:ext cx="43200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5" name="Pyöristetty suorakulmio 9"/>
          <p:cNvSpPr/>
          <p:nvPr/>
        </p:nvSpPr>
        <p:spPr>
          <a:xfrm>
            <a:off x="5003640" y="2708280"/>
            <a:ext cx="1656000" cy="10159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Risk is elevated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6" name="Pyöristetty suorakulmio 10"/>
          <p:cNvSpPr/>
          <p:nvPr/>
        </p:nvSpPr>
        <p:spPr>
          <a:xfrm>
            <a:off x="1035000" y="4038480"/>
            <a:ext cx="1160640" cy="11527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Do the necessary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measures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7" name="Pyöristetty suorakulmio 11"/>
          <p:cNvSpPr/>
          <p:nvPr/>
        </p:nvSpPr>
        <p:spPr>
          <a:xfrm>
            <a:off x="5003640" y="3951360"/>
            <a:ext cx="1297080" cy="11523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Ask for consent for MARAC team handling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8" name="Pyöristetty suorakulmio 12"/>
          <p:cNvSpPr/>
          <p:nvPr/>
        </p:nvSpPr>
        <p:spPr>
          <a:xfrm>
            <a:off x="6408720" y="3936960"/>
            <a:ext cx="1116000" cy="1150920"/>
          </a:xfrm>
          <a:custGeom>
            <a:avLst/>
            <a:gdLst>
              <a:gd name="textAreaLeft" fmla="*/ 54360 w 1116000"/>
              <a:gd name="textAreaRight" fmla="*/ 1061640 w 1116000"/>
              <a:gd name="textAreaTop" fmla="*/ 54360 h 1150920"/>
              <a:gd name="textAreaBottom" fmla="*/ 1096560 h 1150920"/>
            </a:gdLst>
            <a:ahLst/>
            <a:rect l="textAreaLeft" t="textAreaTop" r="textAreaRight" b="textAreaBottom"/>
            <a:pathLst>
              <a:path w="21600" h="22276">
                <a:moveTo>
                  <a:pt x="3600" y="0"/>
                </a:moveTo>
                <a:arcTo wR="3600" hR="3600" stAng="16200000" swAng="-5400000"/>
                <a:lnTo>
                  <a:pt x="0" y="18676"/>
                </a:lnTo>
                <a:arcTo wR="3600" hR="3600" stAng="10800000" swAng="-5400000"/>
                <a:lnTo>
                  <a:pt x="18000" y="222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Do the necessary measures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9" name="Pyöristetty suorakulmio 13"/>
          <p:cNvSpPr/>
          <p:nvPr/>
        </p:nvSpPr>
        <p:spPr>
          <a:xfrm>
            <a:off x="7667640" y="3951360"/>
            <a:ext cx="1081080" cy="115236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152360"/>
              <a:gd name="textAreaBottom" fmla="*/ 1099800 h 1152360"/>
            </a:gdLst>
            <a:ahLst/>
            <a:rect l="textAreaLeft" t="textAreaTop" r="textAreaRight" b="textAreaBottom"/>
            <a:pathLst>
              <a:path w="21600" h="23024">
                <a:moveTo>
                  <a:pt x="3600" y="0"/>
                </a:moveTo>
                <a:arcTo wR="3600" hR="3600" stAng="16200000" swAng="-5400000"/>
                <a:lnTo>
                  <a:pt x="0" y="19424"/>
                </a:lnTo>
                <a:arcTo wR="3600" hR="3600" stAng="10800000" swAng="-5400000"/>
                <a:lnTo>
                  <a:pt x="18000" y="230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Offer contact to victim support 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40" name="Alanuoli 14"/>
          <p:cNvSpPr/>
          <p:nvPr/>
        </p:nvSpPr>
        <p:spPr>
          <a:xfrm rot="2700000">
            <a:off x="5181840" y="5301000"/>
            <a:ext cx="432000" cy="50328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41" name="Pyöristetty suorakulmio 15"/>
          <p:cNvSpPr/>
          <p:nvPr/>
        </p:nvSpPr>
        <p:spPr>
          <a:xfrm>
            <a:off x="2698920" y="5133960"/>
            <a:ext cx="2304720" cy="1152720"/>
          </a:xfrm>
          <a:prstGeom prst="roundRect">
            <a:avLst>
              <a:gd name="adj" fmla="val 16667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Post the MARAC form and the consent form to the local MARAC team’s secretary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The MARAC process 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43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44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45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3412-4A12-478D-9C77-F7FE41337BE6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754680" cy="4620960"/>
          </a:xfrm>
          <a:prstGeom prst="rect">
            <a:avLst/>
          </a:prstGeom>
          <a:ln w="0">
            <a:noFill/>
          </a:ln>
        </p:spPr>
      </p:pic>
      <p:sp>
        <p:nvSpPr>
          <p:cNvPr id="347" name="Nuoli oikealle 6"/>
          <p:cNvSpPr/>
          <p:nvPr/>
        </p:nvSpPr>
        <p:spPr>
          <a:xfrm>
            <a:off x="468360" y="2090880"/>
            <a:ext cx="934920" cy="57456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48" name="Picture 2" descr=""/>
          <p:cNvPicPr/>
          <p:nvPr/>
        </p:nvPicPr>
        <p:blipFill>
          <a:blip r:embed="rId2"/>
          <a:stretch/>
        </p:blipFill>
        <p:spPr>
          <a:xfrm>
            <a:off x="439560" y="3645000"/>
            <a:ext cx="96372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50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51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34EF-8600-4027-B75F-3132AAD1B694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1004760" y="23760"/>
            <a:ext cx="7134480" cy="5886360"/>
          </a:xfrm>
          <a:prstGeom prst="rect">
            <a:avLst/>
          </a:prstGeom>
          <a:ln w="0">
            <a:noFill/>
          </a:ln>
        </p:spPr>
      </p:pic>
      <p:sp>
        <p:nvSpPr>
          <p:cNvPr id="353" name="Tekstiruutu 4"/>
          <p:cNvSpPr/>
          <p:nvPr/>
        </p:nvSpPr>
        <p:spPr>
          <a:xfrm>
            <a:off x="324000" y="692280"/>
            <a:ext cx="48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The risk assesment form is a tool for mapping violence: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Risk Indicator Checklis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pic>
        <p:nvPicPr>
          <p:cNvPr id="355" name="Sisällön paikkamerkki 2" descr=""/>
          <p:cNvPicPr/>
          <p:nvPr/>
        </p:nvPicPr>
        <p:blipFill>
          <a:blip r:embed="rId1"/>
          <a:stretch/>
        </p:blipFill>
        <p:spPr>
          <a:xfrm>
            <a:off x="371520" y="1006560"/>
            <a:ext cx="8345520" cy="4992480"/>
          </a:xfrm>
          <a:prstGeom prst="rect">
            <a:avLst/>
          </a:prstGeom>
          <a:ln w="0">
            <a:noFill/>
          </a:ln>
        </p:spPr>
      </p:pic>
      <p:sp>
        <p:nvSpPr>
          <p:cNvPr id="356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57" name="Alatunnisteen paikkamerkki 4"/>
          <p:cNvSpPr/>
          <p:nvPr/>
        </p:nvSpPr>
        <p:spPr>
          <a:xfrm>
            <a:off x="1541520" y="6597720"/>
            <a:ext cx="6048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58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ABFE-CF6D-4668-8DA6-2E007B74A79F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An example of the MARAC-team’s Agenda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988560"/>
            <a:ext cx="821844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Agenda of the MARAC-team meeting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Time: Wednesday </a:t>
            </a:r>
            <a:r>
              <a:rPr b="0" lang="lv-LV" sz="1800" spc="-1" strike="noStrike">
                <a:solidFill>
                  <a:srgbClr val="303030"/>
                </a:solidFill>
                <a:latin typeface="Arial"/>
              </a:rPr>
              <a:t>28</a:t>
            </a: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.1</a:t>
            </a:r>
            <a:r>
              <a:rPr b="0" lang="lv-LV" sz="1800" spc="-1" strike="noStrike">
                <a:solidFill>
                  <a:srgbClr val="303030"/>
                </a:solidFill>
                <a:latin typeface="Arial"/>
              </a:rPr>
              <a:t>1</a:t>
            </a: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.2018</a:t>
            </a:r>
            <a:r>
              <a:rPr b="0" lang="lv-LV" sz="1800" spc="-1" strike="noStrike">
                <a:solidFill>
                  <a:srgbClr val="303030"/>
                </a:solidFill>
                <a:latin typeface="Arial"/>
              </a:rPr>
              <a:t>.</a:t>
            </a: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 at </a:t>
            </a:r>
            <a:r>
              <a:rPr b="0" lang="lv-LV" sz="1800" spc="-1" strike="noStrike">
                <a:solidFill>
                  <a:srgbClr val="303030"/>
                </a:solidFill>
                <a:latin typeface="Arial"/>
              </a:rPr>
              <a:t>13</a:t>
            </a: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.</a:t>
            </a:r>
            <a:r>
              <a:rPr b="0" lang="lv-LV" sz="1800" spc="-1" strike="noStrike">
                <a:solidFill>
                  <a:srgbClr val="303030"/>
                </a:solidFill>
                <a:latin typeface="Arial"/>
              </a:rPr>
              <a:t>0</a:t>
            </a: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Place: </a:t>
            </a:r>
            <a:r>
              <a:rPr b="0" lang="lt-LT" sz="1800" spc="-1" strike="noStrike">
                <a:solidFill>
                  <a:srgbClr val="303030"/>
                </a:solidFill>
                <a:latin typeface="Arial"/>
              </a:rPr>
              <a:t>Leona Paegles 1, Cesis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Opening of the meeting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Approval of Agenda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Minutes of previous Meeting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Nomination of Chair and Secretary for 2018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Status of case 9/2017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New case TKM1/2018, presented by police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New case THK 2/2018, presented by social services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Next meeting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Closing of the meeting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1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2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3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B375-519D-4E17-8A86-331A408C459F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Results of the model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28280"/>
            <a:ext cx="82184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3520" indent="-3535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UK police: MARAC decreased reoccurring of domestic violence cases by 2/3 (2004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3520" indent="-3535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In Cardiff: 60 % of victims handled by MARAC did not face reoccurrance of violence in the following 6 months (2004, 2009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3520" indent="-35352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3520" indent="-3535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In Finland, after 6 months of entering MARAC, 15 % of victims had faced reoccurrence of domestic violence (when 6 months prior to entering, likelyhood of reoccurrance was at 60% level), thus, MARAC reduced reoccurring crime offence reports by over 70 %  (2015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6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7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8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6867-C37A-4678-A457-2DBDAE4160DF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THL study of the effectivity (2010-2015)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Data collection: Police records, victim interviews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03030"/>
                </a:solidFill>
                <a:latin typeface="Arial"/>
              </a:rPr>
              <a:t>382</a:t>
            </a:r>
            <a:r>
              <a:rPr b="0" lang="en-GB" sz="2400" spc="-1" strike="noStrike">
                <a:solidFill>
                  <a:srgbClr val="303030"/>
                </a:solidFill>
                <a:latin typeface="Arial"/>
              </a:rPr>
              <a:t> cases have been referred to MARAC in Finland during 1.10.2010-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30.3.2015 , who gave consent to use data in the study (</a:t>
            </a:r>
            <a:r>
              <a:rPr b="0" lang="en-GB" sz="2400" spc="-1" strike="noStrike">
                <a:solidFill>
                  <a:srgbClr val="303030"/>
                </a:solidFill>
                <a:latin typeface="Arial"/>
              </a:rPr>
              <a:t>95 % of victims are women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03030"/>
                </a:solidFill>
                <a:latin typeface="Arial"/>
              </a:rPr>
              <a:t>Police files were pulled six months after the MARAC was held (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N=</a:t>
            </a:r>
            <a:r>
              <a:rPr b="0" lang="en-GB" sz="24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03030"/>
                </a:solidFill>
                <a:latin typeface="Arial"/>
              </a:rPr>
              <a:t>365</a:t>
            </a:r>
            <a:r>
              <a:rPr b="0" lang="en-GB" sz="24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Interviews (n=70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1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2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3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21597-0170-4578-81CC-7409517386BB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Age of the victim referred to MARAC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457200" y="1484280"/>
          <a:ext cx="8218440" cy="296712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e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quency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8-2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49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25-3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19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35-4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12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45-5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58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55-6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28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Not specified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382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</a:tr>
            </a:tbl>
          </a:graphicData>
        </a:graphic>
      </p:graphicFrame>
      <p:sp>
        <p:nvSpPr>
          <p:cNvPr id="376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7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8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AA9E-6161-4729-99EA-50137FA3F79A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9" name="Tekstiruutu 8"/>
          <p:cNvSpPr/>
          <p:nvPr/>
        </p:nvSpPr>
        <p:spPr>
          <a:xfrm>
            <a:off x="1289880" y="5181480"/>
            <a:ext cx="43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  <a:ea typeface="Arial"/>
              </a:rPr>
              <a:t>Most often victims are 25-44 years old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Reoccurrence of violence and abuse</a:t>
            </a:r>
            <a:br>
              <a:rPr sz="2800"/>
            </a:b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(recorded before and 6 months after)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457200" y="1484280"/>
          <a:ext cx="8218440" cy="231156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0.2010-30.3.2015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365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</a:tr>
              <a:tr h="74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Crime reported to police prior to MARAC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232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</a:tr>
              <a:tr h="74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Crime reported to police 6 months after MARAC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</a:tr>
            </a:tbl>
          </a:graphicData>
        </a:graphic>
      </p:graphicFrame>
      <p:sp>
        <p:nvSpPr>
          <p:cNvPr id="382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3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4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E9FE-359C-42FF-9BC6-97CF48A769F1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5" name="Tekstiruutu 7"/>
          <p:cNvSpPr/>
          <p:nvPr/>
        </p:nvSpPr>
        <p:spPr>
          <a:xfrm>
            <a:off x="1163160" y="4537080"/>
            <a:ext cx="72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  <a:ea typeface="Arial"/>
              </a:rPr>
              <a:t>Re-</a:t>
            </a:r>
            <a:r>
              <a:rPr b="0" lang="en-GB" sz="1800" spc="-1" strike="noStrike">
                <a:solidFill>
                  <a:srgbClr val="303030"/>
                </a:solidFill>
                <a:latin typeface="Arial"/>
                <a:ea typeface="Arial"/>
              </a:rPr>
              <a:t>victimisation was reduced in more than 70 per cent of the cases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Structure of the presentation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303030"/>
                </a:solidFill>
                <a:latin typeface="Arial"/>
              </a:rPr>
              <a:t>Why:</a:t>
            </a:r>
            <a:r>
              <a:rPr b="0" lang="fi-FI" sz="2800" spc="-1" strike="noStrike">
                <a:solidFill>
                  <a:srgbClr val="303030"/>
                </a:solidFill>
                <a:latin typeface="Arial"/>
              </a:rPr>
              <a:t> Prevalence and impact of violence against women and domestic violence in Europe </a:t>
            </a: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303030"/>
                </a:solidFill>
                <a:latin typeface="Arial"/>
              </a:rPr>
              <a:t>What</a:t>
            </a:r>
            <a:r>
              <a:rPr b="0" lang="fi-FI" sz="2800" spc="-1" strike="noStrike">
                <a:solidFill>
                  <a:srgbClr val="303030"/>
                </a:solidFill>
                <a:latin typeface="Arial"/>
              </a:rPr>
              <a:t> is MARAC</a:t>
            </a: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303030"/>
                </a:solidFill>
                <a:latin typeface="Arial"/>
              </a:rPr>
              <a:t>How</a:t>
            </a:r>
            <a:r>
              <a:rPr b="0" lang="fi-FI" sz="2800" spc="-1" strike="noStrike">
                <a:solidFill>
                  <a:srgbClr val="303030"/>
                </a:solidFill>
                <a:latin typeface="Arial"/>
              </a:rPr>
              <a:t> MARAC works and our experiences of its effectivity</a:t>
            </a: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7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8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9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78A0-214B-4D63-AAEA-A57CF0A4C72C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7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8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3D8E-E2D3-47B6-9574-2DC2DB0AD3BD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9" name="Tekstiruutu 4"/>
          <p:cNvSpPr/>
          <p:nvPr/>
        </p:nvSpPr>
        <p:spPr>
          <a:xfrm>
            <a:off x="755640" y="907920"/>
            <a:ext cx="2879640" cy="448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030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MARAC in Finland in 2017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Covers over 2,5 million inhabitants (population of 5,4 million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34 MARAC teams functioning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Over 100 municipalities, 1-3 in each County 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90" name="Kuva 5" descr=""/>
          <p:cNvPicPr/>
          <p:nvPr/>
        </p:nvPicPr>
        <p:blipFill>
          <a:blip r:embed="rId1"/>
          <a:stretch/>
        </p:blipFill>
        <p:spPr>
          <a:xfrm>
            <a:off x="3995640" y="836640"/>
            <a:ext cx="48243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Key factors for succeeding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 u="sng">
                <a:solidFill>
                  <a:srgbClr val="303030"/>
                </a:solidFill>
                <a:uFillTx/>
                <a:latin typeface="Arial"/>
              </a:rPr>
              <a:t>When adapting the model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Separate </a:t>
            </a:r>
            <a:r>
              <a:rPr b="1" lang="fi-FI" sz="2400" spc="-1" strike="noStrike">
                <a:solidFill>
                  <a:srgbClr val="303030"/>
                </a:solidFill>
                <a:latin typeface="Arial"/>
              </a:rPr>
              <a:t>funds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/project funds necessary for start-up/piloting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For the model to work, asking about violence should be made </a:t>
            </a:r>
            <a:r>
              <a:rPr b="1" lang="fi-FI" sz="2400" spc="-1" strike="noStrike">
                <a:solidFill>
                  <a:srgbClr val="303030"/>
                </a:solidFill>
                <a:latin typeface="Arial"/>
              </a:rPr>
              <a:t>routine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 in client encounters 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Systematic </a:t>
            </a:r>
            <a:r>
              <a:rPr b="1" lang="fi-FI" sz="2400" spc="-1" strike="noStrike">
                <a:solidFill>
                  <a:srgbClr val="303030"/>
                </a:solidFill>
                <a:latin typeface="Arial"/>
              </a:rPr>
              <a:t>training of professionals 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crucia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Winning over the hearts and minds of 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superior(s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3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4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5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6968-790A-4676-BF85-5AE650298E05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Recent legal developments in Finland with regard to MARAC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6840" y="1267920"/>
            <a:ext cx="821844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inland ratified the </a:t>
            </a:r>
            <a:r>
              <a:rPr b="1" lang="en-US" sz="2400" spc="-1" strike="noStrike">
                <a:solidFill>
                  <a:srgbClr val="303030"/>
                </a:solidFill>
                <a:latin typeface="Arial"/>
              </a:rPr>
              <a:t>Istanbul Convention 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(CoE Convention on preventing and combating violence against women and domestic violence) in 1.8.2015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Obligates the state to fully address Violence against Women it in all its forms and to take measures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event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 violence against women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tect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 its victims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secute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 the perpetrators. 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Art. 18 is abou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ffective multi-agency collaboration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Art. 51 is abou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isk assessment 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and risk management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8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9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0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495F-6B6E-4BA9-8DD1-F6B8A07351D9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Recent legal developments in Finland (continues)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28320" indent="-3283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New </a:t>
            </a:r>
            <a:r>
              <a:rPr b="1" lang="en-US" sz="2200" spc="-1" strike="noStrike">
                <a:solidFill>
                  <a:srgbClr val="303030"/>
                </a:solidFill>
                <a:latin typeface="Arial"/>
              </a:rPr>
              <a:t>Social Welfare Act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entered into force 1.4.2015.  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575280" indent="-24372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Obligates the local municipalities to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rovide services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o a person encountering violence, incl. Domestic and Interpersonal Violence.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marL="328320" indent="-3283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e Act on reimbursement out of State funds for providers of </a:t>
            </a:r>
            <a:r>
              <a:rPr b="1" lang="en-US" sz="2200" spc="-1" strike="noStrike">
                <a:solidFill>
                  <a:srgbClr val="303030"/>
                </a:solidFill>
                <a:latin typeface="Arial"/>
              </a:rPr>
              <a:t>shelters for victims of domestic violence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entered into frce 1.1.2015. 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marL="328320" indent="-32832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- The shelters financed by the state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marL="328320" indent="-32832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-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uarantees qualitative and comprehensive</a:t>
            </a:r>
            <a:r>
              <a:rPr b="1" lang="en-US" sz="22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rvices 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marL="328320" indent="-32832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- The shelters are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open for anyone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– women, men and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hildren of all ages – who have experienced acts or are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reatened by acts of domestic violence. (Children usually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tay in the shelter with their parent.)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575280" indent="-24372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3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4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5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9555-8A9F-49C3-8567-75B44EF67C13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7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8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7BB4-78C7-4C3A-9BA7-D8DB3FBE9DCC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2843280" y="289080"/>
            <a:ext cx="3456000" cy="6279840"/>
          </a:xfrm>
          <a:prstGeom prst="rect">
            <a:avLst/>
          </a:prstGeom>
          <a:ln w="0">
            <a:noFill/>
          </a:ln>
        </p:spPr>
      </p:pic>
      <p:sp>
        <p:nvSpPr>
          <p:cNvPr id="410" name="Tekstiruutu 4"/>
          <p:cNvSpPr/>
          <p:nvPr/>
        </p:nvSpPr>
        <p:spPr>
          <a:xfrm>
            <a:off x="324000" y="1484280"/>
            <a:ext cx="419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03030"/>
                </a:solidFill>
                <a:latin typeface="Arial"/>
              </a:rPr>
              <a:t>Shelters in Finland 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03030"/>
                </a:solidFill>
                <a:latin typeface="Arial"/>
              </a:rPr>
              <a:t>in 2017: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03030"/>
                </a:solidFill>
                <a:latin typeface="Arial"/>
              </a:rPr>
              <a:t>Now 143 places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03030"/>
                </a:solidFill>
                <a:latin typeface="Arial"/>
              </a:rPr>
              <a:t>T.b. Increased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03030"/>
                </a:solidFill>
                <a:latin typeface="Arial"/>
              </a:rPr>
              <a:t>Funding +40 %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Thank you!</a:t>
            </a:r>
            <a:br>
              <a:rPr sz="3600"/>
            </a:b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539280" y="3789360"/>
            <a:ext cx="82184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303030"/>
                </a:solidFill>
                <a:latin typeface="Arial"/>
              </a:rPr>
              <a:t>martta.october@thl.fi, +358 29 524 7710</a:t>
            </a:r>
            <a:endParaRPr b="0" lang="en-US" sz="20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303030"/>
                </a:solidFill>
                <a:latin typeface="Arial"/>
              </a:rPr>
              <a:t>www.thl.fi/marak (mostly in Finnish)</a:t>
            </a:r>
            <a:endParaRPr b="0" lang="en-US" sz="20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303030"/>
                </a:solidFill>
                <a:latin typeface="Arial"/>
              </a:rPr>
              <a:t>www.safelives.org.uk (MARAC info/UK)</a:t>
            </a:r>
            <a:endParaRPr b="0" lang="en-US" sz="2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13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14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15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7316-ED08-464C-B0DA-3C997D03D031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416" name="Picture 2" descr="M:\_Pictures\pöllöt.PNG"/>
          <p:cNvPicPr/>
          <p:nvPr/>
        </p:nvPicPr>
        <p:blipFill>
          <a:blip r:embed="rId1"/>
          <a:stretch/>
        </p:blipFill>
        <p:spPr>
          <a:xfrm>
            <a:off x="1593720" y="1052640"/>
            <a:ext cx="5913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15640" y="-150120"/>
            <a:ext cx="7559640" cy="45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lv-LV" sz="2800" spc="-1" strike="noStrike">
              <a:solidFill>
                <a:srgbClr val="519b2f"/>
              </a:solidFill>
              <a:latin typeface="Arial"/>
            </a:endParaRPr>
          </a:p>
        </p:txBody>
      </p:sp>
      <p:pic>
        <p:nvPicPr>
          <p:cNvPr id="281" name="Sisällön paikkamerkki 6" descr=""/>
          <p:cNvPicPr/>
          <p:nvPr/>
        </p:nvPicPr>
        <p:blipFill>
          <a:blip r:embed="rId1"/>
          <a:stretch/>
        </p:blipFill>
        <p:spPr>
          <a:xfrm>
            <a:off x="755640" y="0"/>
            <a:ext cx="7777080" cy="6165720"/>
          </a:xfrm>
          <a:prstGeom prst="rect">
            <a:avLst/>
          </a:prstGeom>
          <a:ln w="0">
            <a:noFill/>
          </a:ln>
        </p:spPr>
      </p:pic>
      <p:sp>
        <p:nvSpPr>
          <p:cNvPr id="282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3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4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DCF5-E965-496E-9114-B6B1919C7DAC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6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7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9896-F40A-48B1-9CF8-5E7A4ACBB002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288" name="Kuva 4" descr=""/>
          <p:cNvPicPr/>
          <p:nvPr/>
        </p:nvPicPr>
        <p:blipFill>
          <a:blip r:embed="rId1"/>
          <a:stretch/>
        </p:blipFill>
        <p:spPr>
          <a:xfrm>
            <a:off x="609480" y="0"/>
            <a:ext cx="791208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Domestic violence (even only between parents) is an ACE (Adverse Childhood Experience)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pic>
        <p:nvPicPr>
          <p:cNvPr id="290" name="Sisällön paikkamerkki 7" descr=""/>
          <p:cNvPicPr/>
          <p:nvPr/>
        </p:nvPicPr>
        <p:blipFill>
          <a:blip r:embed="rId1"/>
          <a:stretch/>
        </p:blipFill>
        <p:spPr>
          <a:xfrm>
            <a:off x="900000" y="1339920"/>
            <a:ext cx="6985080" cy="4951440"/>
          </a:xfrm>
          <a:prstGeom prst="rect">
            <a:avLst/>
          </a:prstGeom>
          <a:ln w="0">
            <a:noFill/>
          </a:ln>
        </p:spPr>
      </p:pic>
      <p:sp>
        <p:nvSpPr>
          <p:cNvPr id="291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92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93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0F8F-4E58-480B-9733-EF946F350189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519b2f"/>
                </a:solidFill>
                <a:latin typeface="Arial"/>
              </a:rPr>
              <a:t>Homicides in Intimate partner relationships in Finland</a:t>
            </a:r>
            <a:endParaRPr b="1" lang="en-US" sz="32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95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96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97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8464-E44F-47C9-A1BD-D37C6104A70F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1397160" y="1674720"/>
            <a:ext cx="6338880" cy="39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Violence against women in intimate partner relations </a:t>
            </a:r>
            <a:br>
              <a:rPr sz="2800"/>
            </a:b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– the whole picture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00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01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02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62ED-B497-455C-BA36-5C48377128E6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354800" cy="4068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"/>
          <p:cNvPicPr/>
          <p:nvPr/>
        </p:nvPicPr>
        <p:blipFill>
          <a:blip r:embed="rId2"/>
          <a:stretch/>
        </p:blipFill>
        <p:spPr>
          <a:xfrm>
            <a:off x="2556000" y="2205000"/>
            <a:ext cx="933480" cy="1587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"/>
          <p:cNvPicPr/>
          <p:nvPr/>
        </p:nvPicPr>
        <p:blipFill>
          <a:blip r:embed="rId3"/>
          <a:stretch/>
        </p:blipFill>
        <p:spPr>
          <a:xfrm>
            <a:off x="2073240" y="3095640"/>
            <a:ext cx="933480" cy="158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4"/>
          <a:stretch/>
        </p:blipFill>
        <p:spPr>
          <a:xfrm>
            <a:off x="1447920" y="4229280"/>
            <a:ext cx="804600" cy="1584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" descr=""/>
          <p:cNvPicPr/>
          <p:nvPr/>
        </p:nvPicPr>
        <p:blipFill>
          <a:blip r:embed="rId5"/>
          <a:stretch/>
        </p:blipFill>
        <p:spPr>
          <a:xfrm>
            <a:off x="7770960" y="3174840"/>
            <a:ext cx="128520" cy="1694160"/>
          </a:xfrm>
          <a:prstGeom prst="rect">
            <a:avLst/>
          </a:prstGeom>
          <a:ln w="0">
            <a:noFill/>
          </a:ln>
        </p:spPr>
      </p:pic>
      <p:sp>
        <p:nvSpPr>
          <p:cNvPr id="308" name="Tekstiruutu 6"/>
          <p:cNvSpPr/>
          <p:nvPr/>
        </p:nvSpPr>
        <p:spPr>
          <a:xfrm>
            <a:off x="324000" y="206064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21/year on average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(2003-2013)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09" name="Tekstiruutu 8"/>
          <p:cNvSpPr/>
          <p:nvPr/>
        </p:nvSpPr>
        <p:spPr>
          <a:xfrm>
            <a:off x="755640" y="2781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3300/year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(in 2013)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0" name="Tekstiruutu 9"/>
          <p:cNvSpPr/>
          <p:nvPr/>
        </p:nvSpPr>
        <p:spPr>
          <a:xfrm>
            <a:off x="324000" y="3860640"/>
            <a:ext cx="13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10 % of all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victims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1" name="Tekstiruutu 10"/>
          <p:cNvSpPr/>
          <p:nvPr/>
        </p:nvSpPr>
        <p:spPr>
          <a:xfrm>
            <a:off x="324000" y="4869000"/>
            <a:ext cx="235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30% of females 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over the age of 15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2" name="Tekstiruutu 11"/>
          <p:cNvSpPr/>
          <p:nvPr/>
        </p:nvSpPr>
        <p:spPr>
          <a:xfrm>
            <a:off x="6732720" y="1628640"/>
            <a:ext cx="4805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Annually 8 % 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of the people 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in intimate partner 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relationships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(approx. 100 000)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4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5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39EC-B015-4192-84A3-5FBA74435519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30908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What is MARAC?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MARAC is a local, multi agency victim-focused meeting 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The risk assessment process is f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dult</a:t>
            </a:r>
            <a:r>
              <a:rPr b="1" lang="en-US" sz="24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ictims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rious</a:t>
            </a:r>
            <a:r>
              <a:rPr b="1" lang="en-US" sz="24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domestic violence/abuse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In the meetings information is shared on the highest risk cases of domestic violence and abuse between different statutory and voluntary sector agencies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In Finland, MARAC procedures and standards for operating MARAC meetings are coordinated by THL (National Institute for Health and Welfare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Video: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 u="sng">
                <a:solidFill>
                  <a:srgbClr val="303030"/>
                </a:solidFill>
                <a:uFillTx/>
                <a:latin typeface="Arial"/>
              </a:rPr>
              <a:t>https://www.youtube.com/watch?v=alje4zJOHIw 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9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0" name="Alatunnisteen paikkamerkki 5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1" name="Dian numeron paikkamerkki 4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1F33-3578-4072-9B38-3C08C404267A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7:05Z</dcterms:created>
  <dc:creator>Jaakko Säkö</dc:creator>
  <dc:description/>
  <dc:language>en-US</dc:language>
  <cp:lastModifiedBy>Laura Kornete</cp:lastModifiedBy>
  <cp:lastPrinted>2018-11-28T07:41:21Z</cp:lastPrinted>
  <dcterms:modified xsi:type="dcterms:W3CDTF">2019-04-03T07:49:52Z</dcterms:modified>
  <cp:revision>95</cp:revision>
  <dc:subject>suomi</dc:subject>
  <dc:title>Dia 1</dc:title>
</cp:coreProperties>
</file>