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91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7"/>
          </p:nvPr>
        </p:nvSpPr>
        <p:spPr>
          <a:xfrm>
            <a:off x="-3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8"/>
          </p:nvPr>
        </p:nvSpPr>
        <p:spPr>
          <a:xfrm>
            <a:off x="38145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i-FI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BAE88C-AD47-4645-A174-B1FF21C08401}" type="slidenum">
              <a:rPr b="0" lang="fi-FI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86DBB02-D951-4D79-8CDB-C3FBA66F5205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09C6B2A-4F6A-41D1-AA25-CEBCDA78E1A6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267-7772-47F5-8850-64FFD6FD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D19-F98F-46D1-B879-9AD59E7A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126-4DB9-425A-8B7B-13821B5A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200-8AA1-47D1-A1CD-040D18E8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77BCE-AF7F-4315-BBB5-9501D97C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85D49-835C-485B-9931-0782A600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88879-2F47-4F40-BCF9-1B468FCD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D7FDF-1A2E-45B8-BEED-B414148C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36F61-6E61-4AF4-BF20-1723DD40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49B2D-661A-4ED3-AEE0-95BEF061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F8803-C650-473E-919C-B0A147C4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32B-4C5B-4E6B-9D75-38F779E1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A7FC6-B968-4E44-9446-298ECC51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CC0E0-4897-4E35-8408-3C7DB17E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9FBA6-EC61-44D2-8F2C-E8A21619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ECF4C-2F03-44F7-A8DD-936A109A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8BC54-C158-4796-AEE5-A7F2B1C0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83A81-EF63-48D7-BDE1-C25C2364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99CC1-D4B3-4EC4-9153-721EFCC3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8ABB-1BB1-4AF0-B9F5-6CBF0AD0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8AF70-73DD-41D9-A26F-2F0E1FD7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01C7-A6FB-4DB1-813B-0EE13187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7BC-1AA3-47EF-AD4A-AF75EB84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2067F-4CAD-4850-BAF8-D30DFEF4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DF58A-2271-4105-80B1-98F9CA1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7BED-0D90-4330-B081-7EE63AB0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38537-06E0-4710-A601-F6972F8F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E218-B998-483B-83B6-6AEDD542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37917-BD3C-4945-B476-BF7AF8FD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B08DA-CA7D-4928-9D57-40BC88A2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FBC3C-1EAD-43A0-B207-05CB62BD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35D1E-8A64-4096-9EFE-BC459D77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5E407-2AC7-42C5-8A1D-8B7F812A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9C4-B8C3-4ABD-93E7-9A57D4AC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357AF-32AF-4337-B023-4830BE90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4B104-0873-4F67-BBC6-5872AF13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A4FF3-2159-49A1-8B45-66E5C9C9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0B639-5C4E-4FCD-AD04-B6D7E09C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98BC1-C70F-4339-AC55-E3E05770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79A08-9253-4B36-A0D2-1D53E3E6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6488F-9EE3-4527-BF43-96266A05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26A8C-B2B9-4807-B2A8-1BC55A50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E824C-F23A-44D4-9026-E82C9514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FCC31-73CE-48B9-B1A9-8B4B1AA2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440-1FE6-40A9-8399-04AA4B79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145CE-DA57-432C-B8AD-00C5FD37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863E9-8BDA-4D31-9307-3C2D081D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9782A-253D-4104-8E51-C31E3A24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136B2-15BA-4B02-A848-858FCF74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F21BD-F633-4DAF-A43B-7BE9859F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E1686-5737-46B6-A99A-0E835A15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C5026-7A04-4907-AA52-2869554D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8774F-0B52-42C4-9E4D-1ECBF63D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72691-B407-423F-AE22-3735264A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F6243-1574-43B9-A432-9D2030CF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1BF-8940-4188-98F4-A385A95E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104E2-511A-4502-BDA0-538E360B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B50-E55B-499A-8AF0-D041CD60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ACB-9982-4F17-841E-22972BA7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EED-75BA-41E7-83F7-034EC815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34CB-BBD8-47AC-B0B7-CEB486197A13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5" name="Picture 10" descr="SHORT_THL_LOGO_RGB_large.jpg"/>
          <p:cNvPicPr/>
          <p:nvPr/>
        </p:nvPicPr>
        <p:blipFill>
          <a:blip r:embed="rId2"/>
          <a:stretch/>
        </p:blipFill>
        <p:spPr>
          <a:xfrm>
            <a:off x="3124080" y="4038480"/>
            <a:ext cx="2603520" cy="1063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7" name="Picture 14" descr="THL_KV_LOGO_PPT.JPG"/>
          <p:cNvPicPr/>
          <p:nvPr/>
        </p:nvPicPr>
        <p:blipFill>
          <a:blip r:embed="rId3"/>
          <a:stretch/>
        </p:blipFill>
        <p:spPr>
          <a:xfrm>
            <a:off x="2209680" y="5226120"/>
            <a:ext cx="4572000" cy="226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98E7-0FBD-4A82-80A4-A6CD8399F05B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6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9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92" name="Suorakulmio 6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19FB-4189-49B7-BE5C-396FB74E764D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35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37" name="Suorakulmio 7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B9A6-BC0D-4EB7-AC65-FF662E219F76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8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82" name="Suorakulmio 5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2016-982F-49E3-A47C-C7D933EF0782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0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AFB6-B3DD-4F0D-B140-604EE38872B4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43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RAC</a:t>
            </a:r>
            <a:r>
              <a:rPr b="1" lang="fi-FI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 Agency Risk Assessment Conferenc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68360" y="2631600"/>
            <a:ext cx="82072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The Finnish experiences since 2010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3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74" name="Picture 7" descr="ylabanneri_7.jpg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Aims of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authorities/agencie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hare information between authorities to increase the safety, health and well-being of victims and their childre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 the risk of har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, cut costs of violence, decrease unnecessary work, improve follow-up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victi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Reduce repeat victimization/reoccurrence of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rove the safety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f the victim of domestic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4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5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6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DD9F-F38E-4350-BFC0-D6F1B64F98D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8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9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7550-5CEC-488D-B076-10BAA8B8E71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0" name="Pyöristetty suorakulmio 4"/>
          <p:cNvSpPr/>
          <p:nvPr/>
        </p:nvSpPr>
        <p:spPr>
          <a:xfrm>
            <a:off x="2805120" y="246240"/>
            <a:ext cx="2305080" cy="10951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Identify the Victim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1" name="Pyöristetty suorakulmio 5"/>
          <p:cNvSpPr/>
          <p:nvPr/>
        </p:nvSpPr>
        <p:spPr>
          <a:xfrm>
            <a:off x="2805120" y="1557360"/>
            <a:ext cx="2305080" cy="100800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Do the Risk Assessment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(MARAC form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2" name="Pyöristetty suorakulmio 6"/>
          <p:cNvSpPr/>
          <p:nvPr/>
        </p:nvSpPr>
        <p:spPr>
          <a:xfrm>
            <a:off x="1258920" y="2708280"/>
            <a:ext cx="1657440" cy="1015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not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3" name="Alanuoli 7"/>
          <p:cNvSpPr/>
          <p:nvPr/>
        </p:nvSpPr>
        <p:spPr>
          <a:xfrm rot="2700000">
            <a:off x="3080880" y="2733120"/>
            <a:ext cx="432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4" name="Alanuoli 8"/>
          <p:cNvSpPr/>
          <p:nvPr/>
        </p:nvSpPr>
        <p:spPr>
          <a:xfrm rot="18900000">
            <a:off x="4379760" y="2733840"/>
            <a:ext cx="432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5" name="Pyöristetty suorakulmio 9"/>
          <p:cNvSpPr/>
          <p:nvPr/>
        </p:nvSpPr>
        <p:spPr>
          <a:xfrm>
            <a:off x="5003640" y="2708280"/>
            <a:ext cx="1656000" cy="1015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is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6" name="Pyöristetty suorakulmio 10"/>
          <p:cNvSpPr/>
          <p:nvPr/>
        </p:nvSpPr>
        <p:spPr>
          <a:xfrm>
            <a:off x="1035000" y="4038480"/>
            <a:ext cx="1160640" cy="1152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7" name="Pyöristetty suorakulmio 11"/>
          <p:cNvSpPr/>
          <p:nvPr/>
        </p:nvSpPr>
        <p:spPr>
          <a:xfrm>
            <a:off x="5003640" y="3951360"/>
            <a:ext cx="129708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Ask for consent for MARAC team handling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8" name="Pyöristetty suorakulmio 12"/>
          <p:cNvSpPr/>
          <p:nvPr/>
        </p:nvSpPr>
        <p:spPr>
          <a:xfrm>
            <a:off x="6408720" y="3936960"/>
            <a:ext cx="1116000" cy="115092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150920"/>
              <a:gd name="textAreaBottom" fmla="*/ 1096560 h 1150920"/>
            </a:gdLst>
            <a:ahLst/>
            <a:rect l="textAreaLeft" t="textAreaTop" r="textAreaRight" b="textAreaBottom"/>
            <a:pathLst>
              <a:path w="21600" h="22276">
                <a:moveTo>
                  <a:pt x="3600" y="0"/>
                </a:moveTo>
                <a:arcTo wR="3600" hR="3600" stAng="16200000" swAng="-5400000"/>
                <a:lnTo>
                  <a:pt x="0" y="18676"/>
                </a:lnTo>
                <a:arcTo wR="3600" hR="3600" stAng="10800000" swAng="-5400000"/>
                <a:lnTo>
                  <a:pt x="18000" y="222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 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9" name="Pyöristetty suorakulmio 13"/>
          <p:cNvSpPr/>
          <p:nvPr/>
        </p:nvSpPr>
        <p:spPr>
          <a:xfrm>
            <a:off x="7667640" y="3951360"/>
            <a:ext cx="1081080" cy="11523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152360"/>
              <a:gd name="textAreaBottom" fmla="*/ 1099800 h 1152360"/>
            </a:gdLst>
            <a:ahLst/>
            <a:rect l="textAreaLeft" t="textAreaTop" r="textAreaRight" b="textAreaBottom"/>
            <a:pathLst>
              <a:path w="21600" h="23024">
                <a:moveTo>
                  <a:pt x="3600" y="0"/>
                </a:moveTo>
                <a:arcTo wR="3600" hR="3600" stAng="16200000" swAng="-5400000"/>
                <a:lnTo>
                  <a:pt x="0" y="19424"/>
                </a:lnTo>
                <a:arcTo wR="3600" hR="3600" stAng="10800000" swAng="-5400000"/>
                <a:lnTo>
                  <a:pt x="18000" y="230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Offer contact to victim support 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0" name="Alanuoli 14"/>
          <p:cNvSpPr/>
          <p:nvPr/>
        </p:nvSpPr>
        <p:spPr>
          <a:xfrm rot="2700000">
            <a:off x="5181840" y="5301000"/>
            <a:ext cx="432000" cy="5032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1" name="Pyöristetty suorakulmio 15"/>
          <p:cNvSpPr/>
          <p:nvPr/>
        </p:nvSpPr>
        <p:spPr>
          <a:xfrm>
            <a:off x="2698920" y="5133960"/>
            <a:ext cx="2304720" cy="11527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Post the MARAC form and the consent form to the local MARAC team’s secret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e MARAC process 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4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B4CF-D39B-4A2A-AF4A-A1149A620A4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754680" cy="4620960"/>
          </a:xfrm>
          <a:prstGeom prst="rect">
            <a:avLst/>
          </a:prstGeom>
          <a:ln w="0">
            <a:noFill/>
          </a:ln>
        </p:spPr>
      </p:pic>
      <p:sp>
        <p:nvSpPr>
          <p:cNvPr id="347" name="Nuoli oikealle 6"/>
          <p:cNvSpPr/>
          <p:nvPr/>
        </p:nvSpPr>
        <p:spPr>
          <a:xfrm>
            <a:off x="468360" y="2090880"/>
            <a:ext cx="934920" cy="5745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439560" y="3645000"/>
            <a:ext cx="963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0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1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2641-6B8C-4BCF-B21B-EBBD5D2BFC6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004760" y="23760"/>
            <a:ext cx="7134480" cy="5886360"/>
          </a:xfrm>
          <a:prstGeom prst="rect">
            <a:avLst/>
          </a:prstGeom>
          <a:ln w="0">
            <a:noFill/>
          </a:ln>
        </p:spPr>
      </p:pic>
      <p:sp>
        <p:nvSpPr>
          <p:cNvPr id="353" name="Tekstiruutu 4"/>
          <p:cNvSpPr/>
          <p:nvPr/>
        </p:nvSpPr>
        <p:spPr>
          <a:xfrm>
            <a:off x="324000" y="692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The risk assesment form is a tool for mapping violence: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isk Indicator Checklis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355" name="Sisällön paikkamerkki 2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45520" cy="4992480"/>
          </a:xfrm>
          <a:prstGeom prst="rect">
            <a:avLst/>
          </a:prstGeom>
          <a:ln w="0">
            <a:noFill/>
          </a:ln>
        </p:spPr>
      </p:pic>
      <p:sp>
        <p:nvSpPr>
          <p:cNvPr id="35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7" name="Alatunnisteen paikkamerkki 4"/>
          <p:cNvSpPr/>
          <p:nvPr/>
        </p:nvSpPr>
        <p:spPr>
          <a:xfrm>
            <a:off x="1541520" y="6597720"/>
            <a:ext cx="604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EDB2-7858-4E39-919B-E1E4AEB8F140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n example of the MARAC-team’s Agenda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88560"/>
            <a:ext cx="821844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genda of the MARAC-team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Time: Wednesday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28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1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2018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 at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3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0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Place: </a:t>
            </a:r>
            <a:r>
              <a:rPr b="0" lang="lt-LT" sz="1800" spc="-1" strike="noStrike">
                <a:solidFill>
                  <a:srgbClr val="303030"/>
                </a:solidFill>
                <a:latin typeface="Arial"/>
              </a:rPr>
              <a:t>Leona Paegles 1, Cesi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Opening of the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pproval of Agenda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Minutes of previous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omination of Chair and Secretary for 2018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Status of case 9/2017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KM1/2018, presented by polic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HK 2/2018, presented by social services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xt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Closing of the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D4FC-8B39-4046-A846-D4DBEAC8A8A6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sults of the model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2828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UK police: MARAC decreased reoccurring of domestic violence cases by 2/3 (2004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Cardiff: 60 % of victims handled by MARAC did not face reoccurrance of violence in the following 6 months (2004, 2009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Finland, after 6 months of entering MARAC, 15 % of victims had faced reoccurrence of domestic violence (when 6 months prior to entering, likelyhood of reoccurrance was at 60% level), thus, MARAC reduced reoccurring crime offence reports by over 70 %  (2015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C4DE-8225-4188-A5E4-C20E6350B6D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THL study of the effectivity (2010-2015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ata collection: Police records, victim interview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382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cases have been referred to MARAC in Finland during 1.10.2010-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0.3.2015 , who gave consent to use data in the study (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95 % of victims are wome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Police files were pulled six months after the MARAC was held (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N=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03030"/>
                </a:solidFill>
                <a:latin typeface="Arial"/>
              </a:rPr>
              <a:t>365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terviews (n=70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E75D-98A6-4455-9821-C6DDAABE2DDA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ge of the victim referred to MARAC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1484280"/>
          <a:ext cx="8218440" cy="296712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-2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5-3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5-4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5-5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5-6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Not specified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8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</a:tbl>
          </a:graphicData>
        </a:graphic>
      </p:graphicFrame>
      <p:sp>
        <p:nvSpPr>
          <p:cNvPr id="37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A84D-5407-4DE4-A40D-F1DADAB45AB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9" name="Tekstiruutu 8"/>
          <p:cNvSpPr/>
          <p:nvPr/>
        </p:nvSpPr>
        <p:spPr>
          <a:xfrm>
            <a:off x="1289880" y="5181480"/>
            <a:ext cx="43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Most often victims are 25-44 years ol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eoccurrence of violence and abuse</a:t>
            </a:r>
            <a:br>
              <a:rPr sz="2800"/>
            </a:b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(recorded before and 6 months after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484280"/>
          <a:ext cx="8218440" cy="231156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0.2010-30.3.201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36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prior to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32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6 months after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</a:tbl>
          </a:graphicData>
        </a:graphic>
      </p:graphicFrame>
      <p:sp>
        <p:nvSpPr>
          <p:cNvPr id="3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163F-B8E9-4289-9800-25CB48459A2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5" name="Tekstiruutu 7"/>
          <p:cNvSpPr/>
          <p:nvPr/>
        </p:nvSpPr>
        <p:spPr>
          <a:xfrm>
            <a:off x="1163160" y="4537080"/>
            <a:ext cx="72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Re-</a:t>
            </a:r>
            <a:r>
              <a:rPr b="0" lang="en-GB" sz="1800" spc="-1" strike="noStrike">
                <a:solidFill>
                  <a:srgbClr val="303030"/>
                </a:solidFill>
                <a:latin typeface="Arial"/>
                <a:ea typeface="Arial"/>
              </a:rPr>
              <a:t>victimisation was reduced in more than 70 per cent of the case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Structure of the presentation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y: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Prevalence and impact of violence against women and domestic violence in Europe 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at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is MARAC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How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MARAC works and our experiences of its effectivity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7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8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9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284B-7140-4732-BB62-6087C2035C62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8459-A099-49DF-9B61-C0C2DABD0489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9" name="Tekstiruutu 4"/>
          <p:cNvSpPr/>
          <p:nvPr/>
        </p:nvSpPr>
        <p:spPr>
          <a:xfrm>
            <a:off x="755640" y="907920"/>
            <a:ext cx="287964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0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MARAC in Finland in 2017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overs over 2,5 million inhabitants (population of 5,4 millio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4 MARAC teams function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Over 100 municipalities, 1-3 in each County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90" name="Kuva 5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482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Key factors for succeeding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303030"/>
                </a:solidFill>
                <a:uFillTx/>
                <a:latin typeface="Arial"/>
              </a:rPr>
              <a:t>When adapting the model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eparat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funds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/project funds necessary for start-up/pilot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For the model to work, asking about violence should be mad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routine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 in client encounters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ystematic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training of professionals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rucia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Winning over the hearts and minds of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uperior(s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8986-CE62-4813-8180-B4B5ACD9F45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with regard to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nland ratified the 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Istanbul Convention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(CoE Convention on preventing and combating violence against women and domestic violence) in 1.8.2015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bligates the state to fully address Violence against Women it in all its forms and to take measure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violence against wom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tec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its victim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secute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the perpetrators.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18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fective multi-agency collaboratio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51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sk assessment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nd risk managemen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3F53-2DD4-4017-9D4D-5F048766245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(continues)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New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ocial Welfare Act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orce 1.4.2015. 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Obligates the local municipalities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ovide services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o a person encountering violence, incl. Domestic and Interpersonal Violence.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e Act on reimbursement out of State funds for providers of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helters for victims of domestic violenc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rce 1.1.2015.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financed by the state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uarantees qualitative and comprehensive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rvices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ar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pen for anyone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– women, men and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hildren of all ages – who have experienced acts or are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reatened by acts of domestic violence. (Children usually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tay in the shelter with their parent.)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8AD9-8335-4EE8-B98A-852DEB2D146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977D-AA8D-498D-8911-DE573CE7680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843280" y="289080"/>
            <a:ext cx="3456000" cy="6279840"/>
          </a:xfrm>
          <a:prstGeom prst="rect">
            <a:avLst/>
          </a:prstGeom>
          <a:ln w="0">
            <a:noFill/>
          </a:ln>
        </p:spPr>
      </p:pic>
      <p:sp>
        <p:nvSpPr>
          <p:cNvPr id="410" name="Tekstiruutu 4"/>
          <p:cNvSpPr/>
          <p:nvPr/>
        </p:nvSpPr>
        <p:spPr>
          <a:xfrm>
            <a:off x="324000" y="1484280"/>
            <a:ext cx="419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Shelters in Finland 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in 2017: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Now 143 places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T.b. Increased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Funding +40 %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ank you!</a:t>
            </a:r>
            <a:br>
              <a:rPr sz="3600"/>
            </a:b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9280" y="378936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martta.october@thl.fi, +358 29 524 7710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thl.fi/marak (mostly in Finnish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safelives.org.uk (MARAC info/UK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BE46-75B9-4D84-A532-D977201A453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16" name="Picture 2" descr="M:\_Pictures\pöllöt.PNG"/>
          <p:cNvPicPr/>
          <p:nvPr/>
        </p:nvPicPr>
        <p:blipFill>
          <a:blip r:embed="rId1"/>
          <a:stretch/>
        </p:blipFill>
        <p:spPr>
          <a:xfrm>
            <a:off x="1593720" y="1052640"/>
            <a:ext cx="5913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5640" y="-150120"/>
            <a:ext cx="7559640" cy="4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v-LV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81" name="Sisällön paikkamerkki 6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165720"/>
          </a:xfrm>
          <a:prstGeom prst="rect">
            <a:avLst/>
          </a:prstGeom>
          <a:ln w="0">
            <a:noFill/>
          </a:ln>
        </p:spPr>
      </p:pic>
      <p:sp>
        <p:nvSpPr>
          <p:cNvPr id="2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9490-ED61-4299-A33C-9F2C3BCDA8F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6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7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9DBF-50A6-42FA-8776-B388D95ECD2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88" name="Kuva 4" descr=""/>
          <p:cNvPicPr/>
          <p:nvPr/>
        </p:nvPicPr>
        <p:blipFill>
          <a:blip r:embed="rId1"/>
          <a:stretch/>
        </p:blipFill>
        <p:spPr>
          <a:xfrm>
            <a:off x="609480" y="0"/>
            <a:ext cx="791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Domestic violence (even only between parents) is an ACE (Adverse Childhood Experience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90" name="Sisällön paikkamerkki 7" descr=""/>
          <p:cNvPicPr/>
          <p:nvPr/>
        </p:nvPicPr>
        <p:blipFill>
          <a:blip r:embed="rId1"/>
          <a:stretch/>
        </p:blipFill>
        <p:spPr>
          <a:xfrm>
            <a:off x="900000" y="1339920"/>
            <a:ext cx="6985080" cy="4951440"/>
          </a:xfrm>
          <a:prstGeom prst="rect">
            <a:avLst/>
          </a:prstGeom>
          <a:ln w="0">
            <a:noFill/>
          </a:ln>
        </p:spPr>
      </p:pic>
      <p:sp>
        <p:nvSpPr>
          <p:cNvPr id="29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9CDF-D003-4B8F-A491-ECC734DF8CB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519b2f"/>
                </a:solidFill>
                <a:latin typeface="Arial"/>
              </a:rPr>
              <a:t>Homicides in Intimate partner relationships in Finland</a:t>
            </a:r>
            <a:endParaRPr b="1" lang="en-US" sz="32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95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6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7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22E5-E255-4AEC-8157-A057E7DB6AEE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397160" y="1674720"/>
            <a:ext cx="63388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Violence against women in intimate partner relations </a:t>
            </a:r>
            <a:br>
              <a:rPr sz="2800"/>
            </a:b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– the whole pictur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0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1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2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2AED-3DD1-4F7D-85A3-11709C931694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54800" cy="4068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tretch/>
        </p:blipFill>
        <p:spPr>
          <a:xfrm>
            <a:off x="2073240" y="309564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4"/>
          <a:stretch/>
        </p:blipFill>
        <p:spPr>
          <a:xfrm>
            <a:off x="1447920" y="4229280"/>
            <a:ext cx="804600" cy="158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5"/>
          <a:stretch/>
        </p:blipFill>
        <p:spPr>
          <a:xfrm>
            <a:off x="7770960" y="3174840"/>
            <a:ext cx="128520" cy="1694160"/>
          </a:xfrm>
          <a:prstGeom prst="rect">
            <a:avLst/>
          </a:prstGeom>
          <a:ln w="0">
            <a:noFill/>
          </a:ln>
        </p:spPr>
      </p:pic>
      <p:sp>
        <p:nvSpPr>
          <p:cNvPr id="308" name="Tekstiruutu 6"/>
          <p:cNvSpPr/>
          <p:nvPr/>
        </p:nvSpPr>
        <p:spPr>
          <a:xfrm>
            <a:off x="324000" y="2060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21/year on averag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2003-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9" name="Tekstiruutu 8"/>
          <p:cNvSpPr/>
          <p:nvPr/>
        </p:nvSpPr>
        <p:spPr>
          <a:xfrm>
            <a:off x="755640" y="27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300/year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in 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0" name="Tekstiruutu 9"/>
          <p:cNvSpPr/>
          <p:nvPr/>
        </p:nvSpPr>
        <p:spPr>
          <a:xfrm>
            <a:off x="324000" y="386064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10 % of al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victim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1" name="Tekstiruutu 10"/>
          <p:cNvSpPr/>
          <p:nvPr/>
        </p:nvSpPr>
        <p:spPr>
          <a:xfrm>
            <a:off x="324000" y="4869000"/>
            <a:ext cx="23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0% of females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over the age of 15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2" name="Tekstiruutu 11"/>
          <p:cNvSpPr/>
          <p:nvPr/>
        </p:nvSpPr>
        <p:spPr>
          <a:xfrm>
            <a:off x="6732720" y="1628640"/>
            <a:ext cx="480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nnually 8 %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f the people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 intimate partner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relationship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(approx. 100 000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4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5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9FE0-6D36-4773-BDB6-38A00D1FF6D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09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What is MARAC?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MARAC is a local, multi agency victim-focused meeting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e risk assessment process is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ult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ctim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ious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omestic violence/abus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the meetings information is shared on the highest risk cases of domestic violence and abuse between different statutory and voluntary sector agencie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Finland, MARAC procedures and standards for operating MARAC meetings are coordinated by THL (National Institute for Health and Welfare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Video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 u="sng">
                <a:solidFill>
                  <a:srgbClr val="303030"/>
                </a:solidFill>
                <a:uFillTx/>
                <a:latin typeface="Arial"/>
              </a:rPr>
              <a:t>https://www.youtube.com/watch?v=alje4zJOHIw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0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1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05DA-795F-4B2C-850F-14DAAA3D3641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7:05Z</dcterms:created>
  <dc:creator>Jaakko Säkö</dc:creator>
  <dc:description/>
  <dc:language>en-US</dc:language>
  <cp:lastModifiedBy>Laura Kornete</cp:lastModifiedBy>
  <cp:lastPrinted>2018-11-28T07:41:21Z</cp:lastPrinted>
  <dcterms:modified xsi:type="dcterms:W3CDTF">2019-04-03T07:49:52Z</dcterms:modified>
  <cp:revision>95</cp:revision>
  <dc:subject>suomi</dc:subject>
  <dc:title>Dia 1</dc:title>
</cp:coreProperties>
</file>