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6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903240" y="740880"/>
            <a:ext cx="49291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7"/>
          </p:nvPr>
        </p:nvSpPr>
        <p:spPr>
          <a:xfrm>
            <a:off x="-3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18"/>
          </p:nvPr>
        </p:nvSpPr>
        <p:spPr>
          <a:xfrm>
            <a:off x="3814560" y="937224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i-FI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F76207A-77F8-46C0-BCFE-574C1408B2E4}" type="slidenum">
              <a:rPr b="0" lang="fi-FI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7B8B3A-13B6-4EF8-98C5-0D66AA2BC117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29120" cy="369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3"/>
          <p:cNvSpPr/>
          <p:nvPr/>
        </p:nvSpPr>
        <p:spPr>
          <a:xfrm>
            <a:off x="3814920" y="937260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0D5532-7B2A-4560-80CC-FBCC51F9F6E2}" type="slidenum">
              <a:rPr b="0" lang="fi-FI" sz="900" spc="-1" strike="noStrike">
                <a:solidFill>
                  <a:srgbClr val="30303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DB8-0932-47B4-9826-FEEC54D8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47C-0284-4B13-BCF1-0EFCDD2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230-7142-42F9-8531-B2C592D3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CC8-31B1-4387-BBB9-9B495766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F67C-D0B4-4496-884F-BE3D888D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890F4-5AD9-458E-AEDD-B5517616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A07F8-95FD-4719-A0EE-566B19F7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59696-E513-4424-B187-FD098F3E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F3B1F-282E-4ACC-8787-FDD68A1E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6C072-6017-47FF-ADD9-EB1F0980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3588E-653B-40B7-913E-06B6A34E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80A7-8FBE-4606-A37D-CB7612B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8FC6A-ED31-4AA5-A7AD-90C92F12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8AE2-904F-4AE2-9702-A8384AA7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DDC09-BE31-496D-A027-E8228578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572C1-24A1-44AC-AF75-DFDCDE55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F327-83C9-4752-8F12-9374A776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FDE0-7FEE-4396-9349-E28A20B3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9A15-A507-4A48-90B8-669612F3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57DD-C51F-46E7-A8BD-A6D16B6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D69C-0F3D-42DE-86D5-54A388E7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CE80-6E94-485C-88D6-9651E607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203-BA32-4B21-BD23-3642251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2F46-6C5A-44D1-8221-C4C78153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43799-7032-4E20-B65E-4BF73324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61145-2CBB-4106-B9D4-B879A72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2970-47EC-458A-8FFF-ED47EB0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45DD-F86A-4257-8BA4-F7374B39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E7AE-EC44-466B-BDEE-C2C57DB3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7864-D2EE-4E97-B0DD-AA068855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86211-6AD3-4B7E-853B-26D738AA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AE16A-3DAF-450D-8B4E-35C0F8CF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C33B6-8675-4A82-9F40-84F69E5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8E5-F4AB-489B-A607-2AB04F4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2E1E-6D29-4826-A27B-C68A8B1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7A43E-994E-4BC2-A785-5D3C6BE1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588BE-6B47-4EF7-9220-570FC488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E2EB-B0DC-48B8-958F-5BF6B409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EDB9-2A00-44C0-80F9-F6D5CF8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E8B4-5E2D-4959-856F-3A47BE6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3B763-4570-44F8-A5A9-335F6A8E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358B-D666-4B3E-B3E9-B3325471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5D7D-FC3A-4F2F-8BA8-4017B56D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A6D2-A5FD-4A03-8C5F-6A83AF9C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0ED-8AED-42D9-8371-5589D3A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51FF-9F13-49BC-ACBE-B766FA72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D3D9-E68C-4D6F-A70A-472B89F9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FB12-FBF5-4C65-8081-933B8A49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A53A-BD6D-4D12-ADC8-AEA80E3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D6CFB-D354-407D-8DD2-C5E4E36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6A4B3-7223-4A86-8B1A-F8C29CA9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DDFE7-CF6E-44F0-A209-2507C002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A9D4-07C8-4F6F-810E-D98367E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D385-18AD-468C-BF1F-2C75CA0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4CD8-DB8C-49F4-B0E7-98C59376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DF2-09FE-4DFC-9645-39BF5222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7DBB-3AD3-4540-BBB5-17E1718A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C65-B239-4C18-B4BE-4D8ACB90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A3D-367C-4368-8711-9E57EFF8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C85-7263-4DBA-96CA-24E40100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99A1-4E0D-4D43-8792-15503867F872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5" name="Picture 10" descr="SHORT_THL_LOGO_RGB_large.jpg"/>
          <p:cNvPicPr/>
          <p:nvPr/>
        </p:nvPicPr>
        <p:blipFill>
          <a:blip r:embed="rId2"/>
          <a:stretch/>
        </p:blipFill>
        <p:spPr>
          <a:xfrm>
            <a:off x="3124080" y="4038480"/>
            <a:ext cx="2603520" cy="10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0" y="0"/>
            <a:ext cx="9144000" cy="380988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7" name="Picture 14" descr="THL_KV_LOGO_PPT.JPG"/>
          <p:cNvPicPr/>
          <p:nvPr/>
        </p:nvPicPr>
        <p:blipFill>
          <a:blip r:embed="rId3"/>
          <a:stretch/>
        </p:blipFill>
        <p:spPr>
          <a:xfrm>
            <a:off x="2209680" y="5226120"/>
            <a:ext cx="4572000" cy="226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F2FD-614D-4D7D-85CD-E5C367A4425C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9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92" name="Suorakulmio 6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7B9-1D85-443F-8268-3CFBC5894272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35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37" name="Suorakulmio 7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B6C1-DD82-4C63-B1A6-EE3D19F4D953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180" name="Picture 11" descr="SHORT_THL_LOGO_WEB_186x80px.jpg"/>
          <p:cNvPicPr/>
          <p:nvPr/>
        </p:nvPicPr>
        <p:blipFill>
          <a:blip r:embed="rId2"/>
          <a:srcRect l="0" t="9674" r="0" b="12828"/>
          <a:stretch/>
        </p:blipFill>
        <p:spPr>
          <a:xfrm>
            <a:off x="152280" y="5994360"/>
            <a:ext cx="1524240" cy="5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THL_KV_LOGO_PPT.JPG"/>
          <p:cNvPicPr/>
          <p:nvPr/>
        </p:nvPicPr>
        <p:blipFill>
          <a:blip r:embed="rId3"/>
          <a:stretch/>
        </p:blipFill>
        <p:spPr>
          <a:xfrm>
            <a:off x="4368960" y="6273720"/>
            <a:ext cx="4572000" cy="225360"/>
          </a:xfrm>
          <a:prstGeom prst="rect">
            <a:avLst/>
          </a:prstGeom>
          <a:ln w="0">
            <a:noFill/>
          </a:ln>
        </p:spPr>
      </p:pic>
      <p:sp>
        <p:nvSpPr>
          <p:cNvPr id="182" name="Suorakulmio 5"/>
          <p:cNvSpPr/>
          <p:nvPr/>
        </p:nvSpPr>
        <p:spPr>
          <a:xfrm>
            <a:off x="250920" y="1484280"/>
            <a:ext cx="8642160" cy="4392720"/>
          </a:xfrm>
          <a:prstGeom prst="rect">
            <a:avLst/>
          </a:prstGeom>
          <a:solidFill>
            <a:srgbClr val="519b2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lv-LV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Times New Roman"/>
              </a:rPr>
              <a:t>28.11.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Martta Octo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698A-034C-4565-815C-4A54B295381E}" type="slidenum">
              <a:rPr b="1" lang="fi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2" marL="900000" indent="-27468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3" marL="1165320" indent="-26532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4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5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6" marL="1430280" indent="-264960">
              <a:lnSpc>
                <a:spcPct val="95000"/>
              </a:lnSpc>
              <a:spcBef>
                <a:spcPts val="901"/>
              </a:spcBef>
              <a:buClr>
                <a:srgbClr val="3030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0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F472-7FCA-463A-BFB5-700E83148CA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4300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ffffff"/>
                </a:solidFill>
                <a:latin typeface="Arial"/>
              </a:rPr>
              <a:t>MARAC</a:t>
            </a:r>
            <a:r>
              <a:rPr b="1" lang="fi-FI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 Agency Risk Assessment Conferenc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68360" y="2631600"/>
            <a:ext cx="82072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The Finnish experiences since 2010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3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74" name="Picture 7" descr="ylabanneri_7.jpg"/>
          <p:cNvPicPr/>
          <p:nvPr/>
        </p:nvPicPr>
        <p:blipFill>
          <a:blip r:embed="rId1"/>
          <a:stretch/>
        </p:blipFill>
        <p:spPr>
          <a:xfrm>
            <a:off x="0" y="5778360"/>
            <a:ext cx="914400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Aims of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authorities/agencie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are information between authorities to increase the safety, health and well-being of victims and their childre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 the risk of har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, cut costs of violence, decrease unnecessary work, improve follow-up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03030"/>
                </a:solidFill>
                <a:uFillTx/>
                <a:latin typeface="Arial"/>
              </a:rPr>
              <a:t>For the victim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Reduce repeat victimization/reoccurrence of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rove the safety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f the victim of domestic violenc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6505-2E4E-4D7F-85DD-B3E42A59555E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8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9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9FBB-DFFF-47E4-A4A4-1041B76F4DD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0" name="Pyöristetty suorakulmio 4"/>
          <p:cNvSpPr/>
          <p:nvPr/>
        </p:nvSpPr>
        <p:spPr>
          <a:xfrm>
            <a:off x="2805120" y="246240"/>
            <a:ext cx="2305080" cy="10951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Identify the Victim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1" name="Pyöristetty suorakulmio 5"/>
          <p:cNvSpPr/>
          <p:nvPr/>
        </p:nvSpPr>
        <p:spPr>
          <a:xfrm>
            <a:off x="2805120" y="1557360"/>
            <a:ext cx="2305080" cy="100800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Do the Risk Assessment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(MARAC form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2" name="Pyöristetty suorakulmio 6"/>
          <p:cNvSpPr/>
          <p:nvPr/>
        </p:nvSpPr>
        <p:spPr>
          <a:xfrm>
            <a:off x="1258920" y="2708280"/>
            <a:ext cx="1657440" cy="1015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not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3" name="Alanuoli 7"/>
          <p:cNvSpPr/>
          <p:nvPr/>
        </p:nvSpPr>
        <p:spPr>
          <a:xfrm rot="2700000">
            <a:off x="3080880" y="2733120"/>
            <a:ext cx="432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4" name="Alanuoli 8"/>
          <p:cNvSpPr/>
          <p:nvPr/>
        </p:nvSpPr>
        <p:spPr>
          <a:xfrm rot="18900000">
            <a:off x="4379760" y="2733840"/>
            <a:ext cx="432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5" name="Pyöristetty suorakulmio 9"/>
          <p:cNvSpPr/>
          <p:nvPr/>
        </p:nvSpPr>
        <p:spPr>
          <a:xfrm>
            <a:off x="5003640" y="2708280"/>
            <a:ext cx="1656000" cy="10159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Risk is elevate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6" name="Pyöristetty suorakulmio 10"/>
          <p:cNvSpPr/>
          <p:nvPr/>
        </p:nvSpPr>
        <p:spPr>
          <a:xfrm>
            <a:off x="1035000" y="4038480"/>
            <a:ext cx="1160640" cy="1152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7" name="Pyöristetty suorakulmio 11"/>
          <p:cNvSpPr/>
          <p:nvPr/>
        </p:nvSpPr>
        <p:spPr>
          <a:xfrm>
            <a:off x="5003640" y="3951360"/>
            <a:ext cx="1297080" cy="1152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Ask for consent for MARAC team handling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8" name="Pyöristetty suorakulmio 12"/>
          <p:cNvSpPr/>
          <p:nvPr/>
        </p:nvSpPr>
        <p:spPr>
          <a:xfrm>
            <a:off x="6408720" y="3936960"/>
            <a:ext cx="1116000" cy="115092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150920"/>
              <a:gd name="textAreaBottom" fmla="*/ 1096560 h 115092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Do the necessary measures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39" name="Pyöristetty suorakulmio 13"/>
          <p:cNvSpPr/>
          <p:nvPr/>
        </p:nvSpPr>
        <p:spPr>
          <a:xfrm>
            <a:off x="7667640" y="3951360"/>
            <a:ext cx="1081080" cy="11523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152360"/>
              <a:gd name="textAreaBottom" fmla="*/ 1099800 h 1152360"/>
            </a:gdLst>
            <a:ahLst/>
            <a:rect l="textAreaLeft" t="textAreaTop" r="textAreaRight" b="textAreaBottom"/>
            <a:pathLst>
              <a:path w="21600" h="23024">
                <a:moveTo>
                  <a:pt x="3600" y="0"/>
                </a:moveTo>
                <a:arcTo wR="3600" hR="3600" stAng="16200000" swAng="-5400000"/>
                <a:lnTo>
                  <a:pt x="0" y="19424"/>
                </a:lnTo>
                <a:arcTo wR="3600" hR="3600" stAng="10800000" swAng="-5400000"/>
                <a:lnTo>
                  <a:pt x="18000" y="230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Offer contact to victim support 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0" name="Alanuoli 14"/>
          <p:cNvSpPr/>
          <p:nvPr/>
        </p:nvSpPr>
        <p:spPr>
          <a:xfrm rot="2700000">
            <a:off x="5181840" y="5301000"/>
            <a:ext cx="432000" cy="5032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1" name="Pyöristetty suorakulmio 15"/>
          <p:cNvSpPr/>
          <p:nvPr/>
        </p:nvSpPr>
        <p:spPr>
          <a:xfrm>
            <a:off x="2698920" y="5133960"/>
            <a:ext cx="2304720" cy="1152720"/>
          </a:xfrm>
          <a:prstGeom prst="roundRect">
            <a:avLst>
              <a:gd name="adj" fmla="val 16667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303030"/>
                </a:solidFill>
                <a:latin typeface="Arial"/>
              </a:rPr>
              <a:t>Post the MARAC form and the consent form to the local MARAC team’s secretary</a:t>
            </a:r>
            <a:endParaRPr b="0" lang="en-US" sz="14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e MARAC process 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4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4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59B5-F140-4D25-8CB2-B9C69EBD41A5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754680" cy="4620960"/>
          </a:xfrm>
          <a:prstGeom prst="rect">
            <a:avLst/>
          </a:prstGeom>
          <a:ln w="0">
            <a:noFill/>
          </a:ln>
        </p:spPr>
      </p:pic>
      <p:sp>
        <p:nvSpPr>
          <p:cNvPr id="347" name="Nuoli oikealle 6"/>
          <p:cNvSpPr/>
          <p:nvPr/>
        </p:nvSpPr>
        <p:spPr>
          <a:xfrm>
            <a:off x="468360" y="2090880"/>
            <a:ext cx="934920" cy="574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19b2f"/>
          </a:solidFill>
          <a:ln w="25560">
            <a:solidFill>
              <a:srgbClr val="3971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439560" y="3645000"/>
            <a:ext cx="9637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0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1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281-CD96-43EF-8DE9-04E8A4B97CF3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1004760" y="23760"/>
            <a:ext cx="7134480" cy="5886360"/>
          </a:xfrm>
          <a:prstGeom prst="rect">
            <a:avLst/>
          </a:prstGeom>
          <a:ln w="0">
            <a:noFill/>
          </a:ln>
        </p:spPr>
      </p:pic>
      <p:sp>
        <p:nvSpPr>
          <p:cNvPr id="353" name="Tekstiruutu 4"/>
          <p:cNvSpPr/>
          <p:nvPr/>
        </p:nvSpPr>
        <p:spPr>
          <a:xfrm>
            <a:off x="324000" y="692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The risk assesment form is a tool for mapping violence: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isk Indicator Checklist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355" name="Sisällön paikkamerkki 2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45520" cy="4992480"/>
          </a:xfrm>
          <a:prstGeom prst="rect">
            <a:avLst/>
          </a:prstGeom>
          <a:ln w="0">
            <a:noFill/>
          </a:ln>
        </p:spPr>
      </p:pic>
      <p:sp>
        <p:nvSpPr>
          <p:cNvPr id="35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7" name="Alatunnisteen paikkamerkki 4"/>
          <p:cNvSpPr/>
          <p:nvPr/>
        </p:nvSpPr>
        <p:spPr>
          <a:xfrm>
            <a:off x="1541520" y="6597720"/>
            <a:ext cx="604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5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AD7A-CE68-4D24-86D9-C445059DC627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n example of the MARAC-team’s Agenda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88560"/>
            <a:ext cx="821844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genda of the MARAC-team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Time: Wednesday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28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1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2018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 at 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13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.</a:t>
            </a:r>
            <a:r>
              <a:rPr b="0" lang="lv-LV" sz="1800" spc="-1" strike="noStrike">
                <a:solidFill>
                  <a:srgbClr val="303030"/>
                </a:solidFill>
                <a:latin typeface="Arial"/>
              </a:rPr>
              <a:t>0</a:t>
            </a: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</a:rPr>
              <a:t>Place: </a:t>
            </a:r>
            <a:r>
              <a:rPr b="0" lang="lt-LT" sz="1800" spc="-1" strike="noStrike">
                <a:solidFill>
                  <a:srgbClr val="303030"/>
                </a:solidFill>
                <a:latin typeface="Arial"/>
              </a:rPr>
              <a:t>Leona Paegles 1, Cesi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Opening of the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Approval of Agenda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Minutes of previous Meeting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omination of Chair and Secretary for 2018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Status of case 9/2017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KM1/2018, presented by polic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w case THK 2/2018, presented by social services 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Next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303030"/>
                </a:solidFill>
                <a:latin typeface="Arial"/>
              </a:rPr>
              <a:t>Closing of the meeting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3F6F-9ECD-4CB0-AD25-9CD811E0E78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sults of the model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2828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UK police: MARAC decreased reoccurring of domestic violence cases by 2/3 (2004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Cardiff: 60 % of victims handled by MARAC did not face reoccurrance of violence in the following 6 months (2004, 2009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3520" indent="-3535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 Finland, after 6 months of entering MARAC, 15 % of victims had faced reoccurrence of domestic violence (when 6 months prior to entering, likelyhood of reoccurrance was at 60% level), thus, MARAC reduced reoccurring crime offence reports by over 70 %  (2015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6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1462-133E-41E2-9BD7-B9EE7F4CE39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THL study of the effectivity (2010-2015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ata collection: Police records, victim interview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382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cases have been referred to MARAC in Finland during 1.10.2010-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0.3.2015 , who gave consent to use data in the study (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95 % of victims are wome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Police files were pulled six months after the MARAC was held (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N=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03030"/>
                </a:solidFill>
                <a:latin typeface="Arial"/>
              </a:rPr>
              <a:t>365</a:t>
            </a:r>
            <a:r>
              <a:rPr b="0" lang="en-GB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Interviews (n=70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B8DC-3BF5-428B-A069-18DC2A9903E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Age of the victim referred to MARAC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1484280"/>
          <a:ext cx="8218440" cy="296712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-2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-3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-4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1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5-5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5-6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Not specified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82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</a:tbl>
          </a:graphicData>
        </a:graphic>
      </p:graphicFrame>
      <p:sp>
        <p:nvSpPr>
          <p:cNvPr id="376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7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8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F057-1329-4F20-B312-1CF6E2DBA00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79" name="Tekstiruutu 8"/>
          <p:cNvSpPr/>
          <p:nvPr/>
        </p:nvSpPr>
        <p:spPr>
          <a:xfrm>
            <a:off x="1289880" y="5181480"/>
            <a:ext cx="43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Most often victims are 25-44 years old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Reoccurrence of violence and abuse</a:t>
            </a:r>
            <a:br>
              <a:rPr sz="2800"/>
            </a:b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(recorded before and 6 months after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457200" y="1484280"/>
          <a:ext cx="8218440" cy="231156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.2010-30.3.201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= 365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i-FI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9b2f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prior to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32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cd"/>
                    </a:solidFill>
                  </a:tcPr>
                </a:tc>
              </a:tr>
              <a:tr h="74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Crime reported to police 6 months after MARAC</a:t>
                      </a:r>
                      <a:endParaRPr b="0" lang="en-US" sz="18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30303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e8"/>
                    </a:solidFill>
                  </a:tcPr>
                </a:tc>
              </a:tr>
            </a:tbl>
          </a:graphicData>
        </a:graphic>
      </p:graphicFrame>
      <p:sp>
        <p:nvSpPr>
          <p:cNvPr id="3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11D6-F014-4E69-A8C0-FF300B2A50B4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5" name="Tekstiruutu 7"/>
          <p:cNvSpPr/>
          <p:nvPr/>
        </p:nvSpPr>
        <p:spPr>
          <a:xfrm>
            <a:off x="1163160" y="4537080"/>
            <a:ext cx="72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303030"/>
                </a:solidFill>
                <a:latin typeface="Arial"/>
                <a:ea typeface="Arial"/>
              </a:rPr>
              <a:t>Re-</a:t>
            </a:r>
            <a:r>
              <a:rPr b="0" lang="en-GB" sz="1800" spc="-1" strike="noStrike">
                <a:solidFill>
                  <a:srgbClr val="303030"/>
                </a:solidFill>
                <a:latin typeface="Arial"/>
                <a:ea typeface="Arial"/>
              </a:rPr>
              <a:t>victimisation was reduced in more than 70 per cent of the case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Structure of the presentation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y: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Prevalence and impact of violence against women and domestic violence in Europe 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What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is MARAC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303030"/>
                </a:solidFill>
                <a:latin typeface="Arial"/>
              </a:rPr>
              <a:t>How</a:t>
            </a:r>
            <a:r>
              <a:rPr b="0" lang="fi-FI" sz="2800" spc="-1" strike="noStrike">
                <a:solidFill>
                  <a:srgbClr val="303030"/>
                </a:solidFill>
                <a:latin typeface="Arial"/>
              </a:rPr>
              <a:t> MARAC works and our experiences of its effectivity</a:t>
            </a: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7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20C-1B98-46BC-ACAC-080F5CCB2EF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D1F7-359E-488F-912F-D2770006221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89" name="Tekstiruutu 4"/>
          <p:cNvSpPr/>
          <p:nvPr/>
        </p:nvSpPr>
        <p:spPr>
          <a:xfrm>
            <a:off x="755640" y="907920"/>
            <a:ext cx="287964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03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MARAC in Finland in 2017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overs over 2,5 million inhabitants (population of 5,4 million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34 MARAC teams function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Over 100 municipalities, 1-3 in each County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90" name="Kuva 5" descr=""/>
          <p:cNvPicPr/>
          <p:nvPr/>
        </p:nvPicPr>
        <p:blipFill>
          <a:blip r:embed="rId1"/>
          <a:stretch/>
        </p:blipFill>
        <p:spPr>
          <a:xfrm>
            <a:off x="399564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Key factors for succeeding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303030"/>
                </a:solidFill>
                <a:uFillTx/>
                <a:latin typeface="Arial"/>
              </a:rPr>
              <a:t>When adapting the model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eparat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funds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/project funds necessary for start-up/piloting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For the model to work, asking about violence should be made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routine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 in client encounters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ystematic </a:t>
            </a:r>
            <a:r>
              <a:rPr b="1" lang="fi-FI" sz="2400" spc="-1" strike="noStrike">
                <a:solidFill>
                  <a:srgbClr val="303030"/>
                </a:solidFill>
                <a:latin typeface="Arial"/>
              </a:rPr>
              <a:t>training of professionals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crucial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Winning over the hearts and minds of </a:t>
            </a: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superior(s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023E-EE45-46D9-A33D-DBDBB3819FBF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with regard to MARAC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267920"/>
            <a:ext cx="82184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Finland ratified the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Istanbul Convention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(CoE Convention on preventing and combating violence against women and domestic violence) in 1.8.2015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Obligates the state to fully address Violence against Women it in all its forms and to take measure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violence against women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tect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its victims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secute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the perpetrators.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18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ctive multi-agency collaboration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rt. 51 is 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isk assessment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nd risk management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lvl="1" marL="625320" indent="-26496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57120" indent="-3571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A32-41FE-44BA-827C-7356A95B1B0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Recent legal developments in Finland (continues)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New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ocial Welfare Act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orce 1.4.2015. 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Obligates the local municipalities to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rovide services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o a person encountering violence, incl. Domestic and Interpersonal Violence.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e Act on reimbursement out of State funds for providers of 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shelters for victims of domestic violence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entered into frce 1.1.2015.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financed by the state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uarantees qualitative and comprehensive</a:t>
            </a:r>
            <a:r>
              <a:rPr b="1" lang="en-US" sz="22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ervices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28320" indent="-32832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- The shelters are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open for anyone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– women, men and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children of all ages – who have experienced acts or are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threatened by acts of domestic violence. (Children usually 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03030"/>
                </a:solidFill>
                <a:latin typeface="Arial"/>
              </a:rPr>
              <a:t>stay in the shelter with their parent.)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lvl="1" marL="575280" indent="-24372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DD17-EEEA-44F0-A233-198F4E22564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7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08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4C55-3E63-452A-90C3-ED97009B681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843280" y="289080"/>
            <a:ext cx="3456000" cy="6279840"/>
          </a:xfrm>
          <a:prstGeom prst="rect">
            <a:avLst/>
          </a:prstGeom>
          <a:ln w="0">
            <a:noFill/>
          </a:ln>
        </p:spPr>
      </p:pic>
      <p:sp>
        <p:nvSpPr>
          <p:cNvPr id="410" name="Tekstiruutu 4"/>
          <p:cNvSpPr/>
          <p:nvPr/>
        </p:nvSpPr>
        <p:spPr>
          <a:xfrm>
            <a:off x="324000" y="1484280"/>
            <a:ext cx="419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Shelters in Finland 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in 2017: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Now 143 places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T.b. Increased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  <a:p>
            <a:pPr>
              <a:buClr>
                <a:srgbClr val="30303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303030"/>
                </a:solidFill>
                <a:latin typeface="Arial"/>
              </a:rPr>
              <a:t>Funding +40 %</a:t>
            </a:r>
            <a:endParaRPr b="0" lang="en-US" sz="32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Thank you!</a:t>
            </a:r>
            <a:br>
              <a:rPr sz="3600"/>
            </a:b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39280" y="378936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martta.october@thl.fi, +358 29 524 7710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thl.fi/marak (mostly in Finnish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303030"/>
                </a:solidFill>
                <a:latin typeface="Arial"/>
              </a:rPr>
              <a:t>www.safelives.org.uk (MARAC info/UK)</a:t>
            </a:r>
            <a:endParaRPr b="0" lang="en-US" sz="2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4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36D0-42C0-4C2F-B3BD-8A8ACFC63F7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416" name="Picture 2" descr="M:\_Pictures\pöllöt.PNG"/>
          <p:cNvPicPr/>
          <p:nvPr/>
        </p:nvPicPr>
        <p:blipFill>
          <a:blip r:embed="rId1"/>
          <a:stretch/>
        </p:blipFill>
        <p:spPr>
          <a:xfrm>
            <a:off x="1593720" y="1052640"/>
            <a:ext cx="5913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5640" y="-150120"/>
            <a:ext cx="7559640" cy="4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v-LV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81" name="Sisällön paikkamerkki 6" descr=""/>
          <p:cNvPicPr/>
          <p:nvPr/>
        </p:nvPicPr>
        <p:blipFill>
          <a:blip r:embed="rId1"/>
          <a:stretch/>
        </p:blipFill>
        <p:spPr>
          <a:xfrm>
            <a:off x="755640" y="0"/>
            <a:ext cx="7777080" cy="6165720"/>
          </a:xfrm>
          <a:prstGeom prst="rect">
            <a:avLst/>
          </a:prstGeom>
          <a:ln w="0">
            <a:noFill/>
          </a:ln>
        </p:spPr>
      </p:pic>
      <p:sp>
        <p:nvSpPr>
          <p:cNvPr id="28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096-DCCA-4D9D-8739-0077C01CAEE1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6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0BEF-BC96-4856-9C9C-102BDC97EE48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88" name="Kuva 4" descr=""/>
          <p:cNvPicPr/>
          <p:nvPr/>
        </p:nvPicPr>
        <p:blipFill>
          <a:blip r:embed="rId1"/>
          <a:stretch/>
        </p:blipFill>
        <p:spPr>
          <a:xfrm>
            <a:off x="609480" y="0"/>
            <a:ext cx="791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519b2f"/>
                </a:solidFill>
                <a:latin typeface="Arial"/>
              </a:rPr>
              <a:t>Domestic violence (even only between parents) is an ACE (Adverse Childhood Experience)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pic>
        <p:nvPicPr>
          <p:cNvPr id="290" name="Sisällön paikkamerkki 7" descr=""/>
          <p:cNvPicPr/>
          <p:nvPr/>
        </p:nvPicPr>
        <p:blipFill>
          <a:blip r:embed="rId1"/>
          <a:stretch/>
        </p:blipFill>
        <p:spPr>
          <a:xfrm>
            <a:off x="900000" y="1339920"/>
            <a:ext cx="6985080" cy="4951440"/>
          </a:xfrm>
          <a:prstGeom prst="rect">
            <a:avLst/>
          </a:prstGeom>
          <a:ln w="0">
            <a:noFill/>
          </a:ln>
        </p:spPr>
      </p:pic>
      <p:sp>
        <p:nvSpPr>
          <p:cNvPr id="29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1B11-EC17-4263-8B23-15E16A050260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519b2f"/>
                </a:solidFill>
                <a:latin typeface="Arial"/>
              </a:rPr>
              <a:t>Homicides in Intimate partner relationships in Finland</a:t>
            </a:r>
            <a:endParaRPr b="1" lang="en-US" sz="32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295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297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82E8-FD28-45C2-ADB8-F76EB7BA27D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1397160" y="1674720"/>
            <a:ext cx="63388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Violence against women in intimate partner relations </a:t>
            </a:r>
            <a:br>
              <a:rPr sz="2800"/>
            </a:br>
            <a:r>
              <a:rPr b="1" lang="en-US" sz="2800" spc="-1" strike="noStrike">
                <a:solidFill>
                  <a:srgbClr val="519b2f"/>
                </a:solidFill>
                <a:latin typeface="Arial"/>
              </a:rPr>
              <a:t>– the whole picture</a:t>
            </a:r>
            <a:endParaRPr b="1" lang="en-US" sz="28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0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416-95E4-44D3-8B69-14659575843C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54800" cy="4068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2556000" y="220500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3"/>
          <a:stretch/>
        </p:blipFill>
        <p:spPr>
          <a:xfrm>
            <a:off x="2073240" y="3095640"/>
            <a:ext cx="933480" cy="158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4"/>
          <a:stretch/>
        </p:blipFill>
        <p:spPr>
          <a:xfrm>
            <a:off x="1447920" y="4229280"/>
            <a:ext cx="804600" cy="158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5"/>
          <a:stretch/>
        </p:blipFill>
        <p:spPr>
          <a:xfrm>
            <a:off x="7770960" y="3174840"/>
            <a:ext cx="128520" cy="1694160"/>
          </a:xfrm>
          <a:prstGeom prst="rect">
            <a:avLst/>
          </a:prstGeom>
          <a:ln w="0">
            <a:noFill/>
          </a:ln>
        </p:spPr>
      </p:pic>
      <p:sp>
        <p:nvSpPr>
          <p:cNvPr id="308" name="Tekstiruutu 6"/>
          <p:cNvSpPr/>
          <p:nvPr/>
        </p:nvSpPr>
        <p:spPr>
          <a:xfrm>
            <a:off x="324000" y="20606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21/year on average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2003-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09" name="Tekstiruutu 8"/>
          <p:cNvSpPr/>
          <p:nvPr/>
        </p:nvSpPr>
        <p:spPr>
          <a:xfrm>
            <a:off x="755640" y="27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300/year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(in 2013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0" name="Tekstiruutu 9"/>
          <p:cNvSpPr/>
          <p:nvPr/>
        </p:nvSpPr>
        <p:spPr>
          <a:xfrm>
            <a:off x="324000" y="386064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10 % of all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victim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1" name="Tekstiruutu 10"/>
          <p:cNvSpPr/>
          <p:nvPr/>
        </p:nvSpPr>
        <p:spPr>
          <a:xfrm>
            <a:off x="324000" y="4869000"/>
            <a:ext cx="23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30% of females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Arial"/>
                <a:ea typeface="Arial"/>
              </a:rPr>
              <a:t>over the age of 15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2" name="Tekstiruutu 11"/>
          <p:cNvSpPr/>
          <p:nvPr/>
        </p:nvSpPr>
        <p:spPr>
          <a:xfrm>
            <a:off x="6732720" y="1628640"/>
            <a:ext cx="480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nnually 8 %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of the people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 intimate partner 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relationships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(approx. 100 000)</a:t>
            </a:r>
            <a:endParaRPr b="0" lang="en-US" sz="18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äivämäärän paikkamerkki 1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4" name="Alatunnisteen paikkamerkki 2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5" name="Dian numeron paikkamerkki 3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F8C7-D797-481B-8A62-FB1E20DA1DCB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09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519b2f"/>
                </a:solidFill>
                <a:latin typeface="Arial"/>
              </a:rPr>
              <a:t>What is MARAC?</a:t>
            </a:r>
            <a:endParaRPr b="1" lang="en-US" sz="3600" spc="-1" strike="noStrike">
              <a:solidFill>
                <a:srgbClr val="519b2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MARAC is a local, multi agency victim-focused meeting 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risk assessment process is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ult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ctims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ious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domestic violence/abuse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the meetings information is shared on the highest risk cases of domestic violence and abuse between different statutory and voluntary sector agencies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In Finland, MARAC procedures and standards for operating MARAC meetings are coordinated by THL (National Institute for Health and Welfare)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303030"/>
                </a:solidFill>
                <a:latin typeface="Arial"/>
              </a:rPr>
              <a:t>Video:</a:t>
            </a:r>
            <a:endParaRPr b="0" lang="en-US" sz="24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 algn="ctr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 u="sng">
                <a:solidFill>
                  <a:srgbClr val="303030"/>
                </a:solidFill>
                <a:uFillTx/>
                <a:latin typeface="Arial"/>
              </a:rPr>
              <a:t>https://www.youtube.com/watch?v=alje4zJOHIw </a:t>
            </a: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  <a:p>
            <a:pPr marL="349920" indent="-349920">
              <a:lnSpc>
                <a:spcPct val="95000"/>
              </a:lnSpc>
              <a:spcBef>
                <a:spcPts val="901"/>
              </a:spcBef>
              <a:buClr>
                <a:srgbClr val="519b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19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000" spc="-1" strike="noStrike">
                <a:solidFill>
                  <a:srgbClr val="ffffff"/>
                </a:solidFill>
                <a:latin typeface="Arial"/>
              </a:rPr>
              <a:t>28.11.2018.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0" name="Alatunnisteen paikkamerkki 5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000" spc="-1" strike="noStrike">
                <a:solidFill>
                  <a:srgbClr val="ffffff"/>
                </a:solidFill>
                <a:latin typeface="Arial"/>
              </a:rPr>
              <a:t>Martta October</a:t>
            </a:r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  <p:sp>
        <p:nvSpPr>
          <p:cNvPr id="321" name="Dian numeron paikkamerkki 4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4570-2D20-4A79-A554-F6E32AEDDD76}" type="slidenum">
              <a:rPr b="1" lang="fi-FI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303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7:05Z</dcterms:created>
  <dc:creator>Jaakko Säkö</dc:creator>
  <dc:description/>
  <dc:language>en-US</dc:language>
  <cp:lastModifiedBy>Laura Kornete</cp:lastModifiedBy>
  <cp:lastPrinted>2018-11-28T07:41:21Z</cp:lastPrinted>
  <dcterms:modified xsi:type="dcterms:W3CDTF">2019-04-03T07:49:52Z</dcterms:modified>
  <cp:revision>95</cp:revision>
  <dc:subject>suomi</dc:subject>
  <dc:title>Dia 1</dc:title>
</cp:coreProperties>
</file>